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2FC-88A0-438C-9E3F-1D9CA1E5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362-3EC2-4388-9C6E-82D7613A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B1B-398F-44C8-B259-B3189EB8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8F2-9E16-4EFB-AD54-1503BC12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8A62-C0E0-42A8-BB0B-14AF6C22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6C7F-FC11-4152-9559-B3E34D3B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15E2-5808-4D39-83B2-D9D6393B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0E12-0E66-4D66-99B8-E20733EC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A4DE-7ECA-4B5C-9CFB-E00D5367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756A-023C-43B6-9E70-19D86AFB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E303-2706-4AC9-84C1-A7BEC32C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E20-81F8-4FF9-BD77-4BED2BF0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C91E-75F6-4B2E-8F7B-799BDE60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3970-1301-4428-A48F-24D850E6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18F9-0FE4-4BD7-BC69-F3646F96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7081-2439-48C1-8EE8-7F68ECD1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0605-9760-46DB-8388-249FD356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A0DC-5E8B-45DF-B3A5-F45F8B36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22E2-FF5E-45A5-8471-45090E56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9F697-78C0-43A9-8AF1-4AB19445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8D9D-7831-4A21-83AD-159F1825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E6EDF-18A2-4C00-96AB-8C02860E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155-5C01-4380-B1E6-A6F06663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E64DF-2022-4511-B5AD-FF8CD5C9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6672-FFC3-4835-93AD-05C3BC3D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DA6B8-0183-4476-9354-3A87FB80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865FA-58F4-4919-A797-BCF86E0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7A146-34F1-44CB-9FE8-2EFC7B26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960B1-6314-42E1-9D85-B6DE6F91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77BE-B566-4B9C-A923-75099386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37C13-95D6-4405-946F-3E83C4F9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E0AD8-F799-4ACE-B474-2B41B664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130FE-5774-4763-A127-74CF106B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D75-0530-4B86-A233-393DAC62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E20A1-0927-4019-A643-B4E0D65D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F32C-9364-4599-B414-786442EF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D9B82-75BD-44C9-971A-B441D76E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DCE91-1FC6-4609-9F5D-6612FA44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11B6A-FE02-4BFE-8B78-41BA130E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2BC21-B095-4DA3-8173-A124B7A7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0CFF9-D8C2-4F9F-AEB9-8315C5DC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380AF-8E1C-4F84-A9AC-8FD1663C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4F5CD-793F-4163-ADFC-B94636A2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67C77-516E-4D5E-88AD-AC2CD671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4C8-EF97-4D3A-AF47-B599D717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BF8D0-65C7-4E44-B421-9F8ADA81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E0E88-8D53-4705-9DEE-4037C475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883B6-D130-4B40-800F-12EA4E03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AC085-789A-4B64-B7D3-41A9CE4B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8F69A-3F73-4DCD-AC13-E9AB07F7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CB20E-8284-4D7E-8780-F4F66196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05AB6-93A2-45C3-978F-6F43FCFA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9DEDD-38C4-4D96-9854-31E4C4B5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67A2D-24AF-440B-8861-C3A1B2B5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BC2A3-CFA9-4D1F-A0F4-09ECC02A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464-AAC5-45F2-8272-4884FB26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145F9-D12A-4CC2-A228-FDC347F4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ECA46-4B7B-4F0E-B1B3-8F692B72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7CD54-89E4-449A-BE27-A52AF424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47897-80C9-48C9-BE14-30EF7C73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E2A84-D29C-4A32-9A3E-64B24615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6E1AF-2B1F-466A-8D70-C64B3434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A206D-B2B9-46F9-A523-A7365A51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D0374-2E59-4800-8C42-F88BFA2C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AF001-F8DC-4897-B318-3200C240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509C4-649A-49B1-B1D5-605108E8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A92-81CA-46D3-B7D6-BC5C0C57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BF547-D01A-4BE2-AA7B-424EA786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8BA0A-86D5-4E40-8A6B-99E050C8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8AC79-542D-46F3-9F84-827100A5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FB7-B541-40FA-92CE-A4E452AE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DF2-F128-406E-8E86-7DF93699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ap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Shap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29E8-86E8-4DA8-8BDE-0E9214850A0E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8" name="Shap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9" name="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7920" y="203040"/>
                <a:ext cx="91519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9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Shape 12"/>
            <p:cNvGrpSpPr/>
            <p:nvPr/>
          </p:nvGrpSpPr>
          <p:grpSpPr>
            <a:xfrm>
              <a:off x="-12960" y="246960"/>
              <a:ext cx="9175320" cy="563400"/>
              <a:chOff x="-12960" y="246960"/>
              <a:chExt cx="9175320" cy="563400"/>
            </a:xfrm>
          </p:grpSpPr>
          <p:pic>
            <p:nvPicPr>
              <p:cNvPr id="12" name="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6960"/>
                <a:ext cx="91656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hap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Shap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4" name="Group 9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55" name="Shap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56" name="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7920" y="203040"/>
                <a:ext cx="91519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9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8" name="Shape 12"/>
            <p:cNvGrpSpPr/>
            <p:nvPr/>
          </p:nvGrpSpPr>
          <p:grpSpPr>
            <a:xfrm>
              <a:off x="-12960" y="246960"/>
              <a:ext cx="9175320" cy="563400"/>
              <a:chOff x="-12960" y="246960"/>
              <a:chExt cx="9175320" cy="563400"/>
            </a:xfrm>
          </p:grpSpPr>
          <p:pic>
            <p:nvPicPr>
              <p:cNvPr id="59" name="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6960"/>
                <a:ext cx="91656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90C6-336A-4DD3-95BB-8F93069CFCFF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hap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Shap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105" name="Shap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106" name="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7920" y="203040"/>
                <a:ext cx="91519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9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8" name="Shape 12"/>
            <p:cNvGrpSpPr/>
            <p:nvPr/>
          </p:nvGrpSpPr>
          <p:grpSpPr>
            <a:xfrm>
              <a:off x="-12960" y="246960"/>
              <a:ext cx="9175320" cy="563400"/>
              <a:chOff x="-12960" y="246960"/>
              <a:chExt cx="9175320" cy="563400"/>
            </a:xfrm>
          </p:grpSpPr>
          <p:pic>
            <p:nvPicPr>
              <p:cNvPr id="109" name="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6960"/>
                <a:ext cx="91656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3BC6-2124-4B20-827D-175013AD8952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Snip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Freeform 10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Freeform 11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6378-D85B-464B-B65C-9786AA427C8D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hap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Shap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9" name="Group 9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200" name="Shap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201" name="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7920" y="203040"/>
                <a:ext cx="91519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21435600">
                <a:off x="-18720" y="479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3" name="Shape 12"/>
            <p:cNvGrpSpPr/>
            <p:nvPr/>
          </p:nvGrpSpPr>
          <p:grpSpPr>
            <a:xfrm>
              <a:off x="-12960" y="246960"/>
              <a:ext cx="9175320" cy="563400"/>
              <a:chOff x="-12960" y="246960"/>
              <a:chExt cx="9175320" cy="563400"/>
            </a:xfrm>
          </p:grpSpPr>
          <p:pic>
            <p:nvPicPr>
              <p:cNvPr id="204" name="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6960"/>
                <a:ext cx="91656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Java tutoriá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58D9-27C1-4516-9455-7AE60FEA19BC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hap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Shap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250" name="Shap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251" name="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7920" y="203040"/>
                <a:ext cx="91519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 rot="21435600">
                <a:off x="-18720" y="479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53" name="Shape 12"/>
            <p:cNvGrpSpPr/>
            <p:nvPr/>
          </p:nvGrpSpPr>
          <p:grpSpPr>
            <a:xfrm>
              <a:off x="-12960" y="246960"/>
              <a:ext cx="9175320" cy="563400"/>
              <a:chOff x="-12960" y="246960"/>
              <a:chExt cx="9175320" cy="563400"/>
            </a:xfrm>
          </p:grpSpPr>
          <p:pic>
            <p:nvPicPr>
              <p:cNvPr id="254" name="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6960"/>
                <a:ext cx="91656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Java tutoriá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1F24-B0D8-4964-92E2-CE2A8E703002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6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58480" cy="1901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523880" y="32004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Ing. </a:t>
            </a:r>
            <a:r>
              <a:rPr b="0" lang="cs-CZ" sz="1600" spc="-1" strike="noStrike">
                <a:solidFill>
                  <a:srgbClr val="ffffff"/>
                </a:solidFill>
                <a:latin typeface="Constantia"/>
              </a:rPr>
              <a:t>Lumír Návrat, A1018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nstantia"/>
              </a:rPr>
              <a:t>Tel: +420 59 732 3252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nstantia"/>
              </a:rPr>
              <a:t>Email: lumir.navrat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@vsb.cz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ICQ: 64100582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Materi</a:t>
            </a:r>
            <a:r>
              <a:rPr b="0" i="1" lang="cs-CZ" sz="1600" spc="-1" strike="noStrike">
                <a:solidFill>
                  <a:srgbClr val="ffffff"/>
                </a:solidFill>
                <a:latin typeface="Constantia"/>
              </a:rPr>
              <a:t>ály vycházejí z podkladů doc. Ing. Miroslava Beneše , Ph.D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i="1" lang="cs-CZ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</a:t>
            </a:r>
            <a:r>
              <a:rPr b="0" i="1" lang="cs-CZ" sz="1600" spc="-1" strike="noStrike">
                <a:solidFill>
                  <a:srgbClr val="ffffff"/>
                </a:solidFill>
                <a:latin typeface="Constantia"/>
              </a:rPr>
              <a:t>28.5.2005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EA91-5272-4983-9D3B-89AB868EB13F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Základní úlo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áce se soub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mkdi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ir="${dist}/lib"/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delete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ir="lib"/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delete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&gt;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   &lt;fileset dir="." includes="**/*.bak"/&gt; &lt;/delete&gt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copy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file="myfile.txt" tofile="mycopy.txt"/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move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file="file.orig" todir="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${dist}/lib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"/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74D0-9FB4-4E83-90F0-16142C48583E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Z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ákladní úlo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Překl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avac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srcdir="${src}"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          destdir="${build}"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          classpath="xyz.jar"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          debug="on" /&gt;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avac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srcdir="${src}" destdir="${build}"&gt;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lt;classpath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&lt;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athelement path="${classpath}"/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&lt;pathelement location="lib/helper.jar"/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&lt;/classpath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lt;/javac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D0E9-3732-401E-AC01-0280294BA7A5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Základní úlo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Spuštění program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ava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classname="test.Main" &gt;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  &lt;arg value="-h"/&gt;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  &lt;classpath&gt;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     &lt;pathelement location="dist/test.jar"/&gt;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     &lt;pathelement path="${java.class.path}"/&gt;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  &lt;/classpath&gt;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&lt;/java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D23D-64D8-44B7-BCB7-BF4FD3F7F9AA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Zdrojový pro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ackage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riklad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     //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oubor Priklady/Test.ja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ubl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las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ubl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at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oi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ain(String args[]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stem.out.println(“Ahoj!”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E401-B2C1-4727-BCF4-531B2671D659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</a:t>
            </a:r>
            <a:r>
              <a:rPr b="0" lang="cs-CZ" sz="4500" spc="-1" strike="noStrike">
                <a:solidFill>
                  <a:srgbClr val="04617b"/>
                </a:solidFill>
                <a:latin typeface="Calibri"/>
              </a:rPr>
              <a:t>ílový progra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07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onstantia"/>
              </a:rPr>
              <a:t>public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cs-CZ" sz="1900" spc="-1" strike="noStrike">
                <a:solidFill>
                  <a:srgbClr val="000000"/>
                </a:solidFill>
                <a:latin typeface="Constantia"/>
              </a:rPr>
              <a:t>class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Priklady.Test </a:t>
            </a:r>
            <a:r>
              <a:rPr b="1" lang="cs-CZ" sz="1900" spc="-1" strike="noStrike">
                <a:solidFill>
                  <a:srgbClr val="000000"/>
                </a:solidFill>
                <a:latin typeface="Constantia"/>
              </a:rPr>
              <a:t>extends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java.lang.Object {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onstantia"/>
              </a:rPr>
              <a:t>public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Priklady.Test()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Code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0: aload_0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1: invokespecial #1; //Method java/lang/Object."&lt;init&gt;":()V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4: retur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onstantia"/>
              </a:rPr>
              <a:t>public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cs-CZ" sz="1900" spc="-1" strike="noStrike">
                <a:solidFill>
                  <a:srgbClr val="000000"/>
                </a:solidFill>
                <a:latin typeface="Constantia"/>
              </a:rPr>
              <a:t>static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cs-CZ" sz="1900" spc="-1" strike="noStrike">
                <a:solidFill>
                  <a:srgbClr val="000000"/>
                </a:solidFill>
                <a:latin typeface="Constantia"/>
              </a:rPr>
              <a:t>void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main(java.lang.String[])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Code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0: getstatic #2;       //Field java/lang/System.out:Ljava/io/PrintStream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3: ldc #3; 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     //String Ahoj!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5: invokevirtual #4; //Method java/io/PrintStream.println:(Ljava/lang/String;)V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8: retur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0F71-B95D-4639-B6B7-C50CAADF5D72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Datové typ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imitivní datové typ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False, Tr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‘A’, ‘\n’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, lo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23, 5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oat, doub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14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6.67e-1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feren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ční datové typ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tring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abc”, “ab\tcd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o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ing[ ], int[ ] [ 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jek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Boolean, Integer, Float, 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jektové obálky primitivních typů. Od verze 5.0 existuje automatická konverz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7E2B-6198-4E0E-9D8C-5043A94AB5BA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per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á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Aritmetick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x+y, x-y, x*y, x/y, 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%y, -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la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č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== y, x != y, x &lt; y, x &lt;= y, x &gt; y, x &gt;= 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ogick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amp;&amp; y, x || y, !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řiřaze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x = 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x 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 y, …, x++, x-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5C69-1C1E-48B1-9C55-DAA3B93442CD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íkaz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dmíněný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říka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( </a:t>
            </a:r>
            <a:r>
              <a:rPr b="0" i="1" lang="cs-CZ" sz="2400" spc="-1" strike="noStrike">
                <a:solidFill>
                  <a:srgbClr val="0f6fc6"/>
                </a:solidFill>
                <a:latin typeface="Constantia"/>
              </a:rPr>
              <a:t>podmínka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) </a:t>
            </a:r>
            <a:r>
              <a:rPr b="0" i="1" lang="cs-CZ" sz="2400" spc="-1" strike="noStrike">
                <a:solidFill>
                  <a:srgbClr val="00b050"/>
                </a:solidFill>
                <a:latin typeface="Constantia"/>
              </a:rPr>
              <a:t>příka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( </a:t>
            </a:r>
            <a:r>
              <a:rPr b="0" i="1" lang="cs-CZ" sz="2400" spc="-1" strike="noStrike">
                <a:solidFill>
                  <a:srgbClr val="0f6fc6"/>
                </a:solidFill>
                <a:latin typeface="Constantia"/>
              </a:rPr>
              <a:t>podmínka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) </a:t>
            </a:r>
            <a:r>
              <a:rPr b="0" i="1" lang="cs-CZ" sz="2400" spc="-1" strike="noStrike">
                <a:solidFill>
                  <a:srgbClr val="00b050"/>
                </a:solidFill>
                <a:latin typeface="Constantia"/>
              </a:rPr>
              <a:t>příkaz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lse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Constantia"/>
              </a:rPr>
              <a:t>příka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Cykl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while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0" i="1" lang="cs-CZ" sz="2400" spc="-1" strike="noStrike">
                <a:solidFill>
                  <a:srgbClr val="0f6fc6"/>
                </a:solidFill>
                <a:latin typeface="Constantia"/>
              </a:rPr>
              <a:t>podmínka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) </a:t>
            </a:r>
            <a:r>
              <a:rPr b="0" i="1" lang="cs-CZ" sz="2400" spc="-1" strike="noStrike">
                <a:solidFill>
                  <a:srgbClr val="00b050"/>
                </a:solidFill>
                <a:latin typeface="Constantia"/>
              </a:rPr>
              <a:t>příka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o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400" spc="-1" strike="noStrike">
                <a:solidFill>
                  <a:srgbClr val="00b050"/>
                </a:solidFill>
                <a:latin typeface="Constantia"/>
              </a:rPr>
              <a:t>p</a:t>
            </a:r>
            <a:r>
              <a:rPr b="0" i="1" lang="cs-CZ" sz="2400" spc="-1" strike="noStrike">
                <a:solidFill>
                  <a:srgbClr val="00b050"/>
                </a:solidFill>
                <a:latin typeface="Constantia"/>
              </a:rPr>
              <a:t>říkaz</a:t>
            </a:r>
            <a:r>
              <a:rPr b="0" i="1" lang="cs-CZ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while</a:t>
            </a:r>
            <a:r>
              <a:rPr b="0" i="1" lang="cs-CZ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cs-CZ" sz="2400" spc="-1" strike="noStrike">
                <a:solidFill>
                  <a:srgbClr val="0f6fc6"/>
                </a:solidFill>
                <a:latin typeface="Constantia"/>
              </a:rPr>
              <a:t>podmínka</a:t>
            </a:r>
            <a:r>
              <a:rPr b="0" i="1" lang="cs-CZ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6918480" y="1989000"/>
            <a:ext cx="720720" cy="360360"/>
          </a:xfrm>
          <a:prstGeom prst="flowChartDecision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AutoShape 5"/>
          <p:cNvSpPr/>
          <p:nvPr/>
        </p:nvSpPr>
        <p:spPr>
          <a:xfrm>
            <a:off x="6962760" y="2651040"/>
            <a:ext cx="649440" cy="36216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7897680" y="2651040"/>
            <a:ext cx="649440" cy="362160"/>
          </a:xfrm>
          <a:prstGeom prst="flowChartProcess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401" name="AutoShape 8"/>
          <p:cNvCxnSpPr>
            <a:stCxn id="398" idx="3"/>
            <a:endCxn id="400" idx="0"/>
          </p:cNvCxnSpPr>
          <p:nvPr/>
        </p:nvCxnSpPr>
        <p:spPr>
          <a:xfrm>
            <a:off x="7639200" y="2170080"/>
            <a:ext cx="584640" cy="48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2" name="Line 10"/>
          <p:cNvSpPr/>
          <p:nvPr/>
        </p:nvSpPr>
        <p:spPr>
          <a:xfrm>
            <a:off x="7321680" y="30114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403" name="AutoShape 11"/>
          <p:cNvCxnSpPr>
            <a:stCxn id="400" idx="2"/>
            <a:endCxn id="402" idx="0"/>
          </p:cNvCxnSpPr>
          <p:nvPr/>
        </p:nvCxnSpPr>
        <p:spPr>
          <a:xfrm rot="5400000">
            <a:off x="7556760" y="2777400"/>
            <a:ext cx="430920" cy="902160"/>
          </a:xfrm>
          <a:prstGeom prst="bentConnector3">
            <a:avLst>
              <a:gd name="adj1" fmla="val 530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AutoShape 12"/>
          <p:cNvCxnSpPr>
            <a:stCxn id="398" idx="2"/>
            <a:endCxn id="399" idx="0"/>
          </p:cNvCxnSpPr>
          <p:nvPr/>
        </p:nvCxnSpPr>
        <p:spPr>
          <a:xfrm>
            <a:off x="7278840" y="2349360"/>
            <a:ext cx="1008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Line 13"/>
          <p:cNvSpPr/>
          <p:nvPr/>
        </p:nvSpPr>
        <p:spPr>
          <a:xfrm>
            <a:off x="7288200" y="171612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AutoShape 14"/>
          <p:cNvSpPr/>
          <p:nvPr/>
        </p:nvSpPr>
        <p:spPr>
          <a:xfrm>
            <a:off x="5992920" y="3851280"/>
            <a:ext cx="720720" cy="360360"/>
          </a:xfrm>
          <a:prstGeom prst="flowChartDecision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AutoShape 15"/>
          <p:cNvSpPr/>
          <p:nvPr/>
        </p:nvSpPr>
        <p:spPr>
          <a:xfrm>
            <a:off x="6037200" y="4513320"/>
            <a:ext cx="649440" cy="36180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408" name="AutoShape 16"/>
          <p:cNvCxnSpPr>
            <a:stCxn id="406" idx="2"/>
            <a:endCxn id="407" idx="0"/>
          </p:cNvCxnSpPr>
          <p:nvPr/>
        </p:nvCxnSpPr>
        <p:spPr>
          <a:xfrm>
            <a:off x="6353280" y="4211640"/>
            <a:ext cx="1008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Line 17"/>
          <p:cNvSpPr/>
          <p:nvPr/>
        </p:nvSpPr>
        <p:spPr>
          <a:xfrm>
            <a:off x="6350040" y="35784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410" name="AutoShape 18"/>
          <p:cNvCxnSpPr>
            <a:stCxn id="407" idx="2"/>
            <a:endCxn id="406" idx="1"/>
          </p:cNvCxnSpPr>
          <p:nvPr/>
        </p:nvCxnSpPr>
        <p:spPr>
          <a:xfrm flipV="1" rot="16200000">
            <a:off x="5755680" y="4268160"/>
            <a:ext cx="843480" cy="370440"/>
          </a:xfrm>
          <a:prstGeom prst="bentConnector4">
            <a:avLst>
              <a:gd name="adj1" fmla="val -27113"/>
              <a:gd name="adj2" fmla="val 1617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AutoShape 19"/>
          <p:cNvSpPr/>
          <p:nvPr/>
        </p:nvSpPr>
        <p:spPr>
          <a:xfrm>
            <a:off x="7391520" y="5348160"/>
            <a:ext cx="720720" cy="360360"/>
          </a:xfrm>
          <a:prstGeom prst="flowChartDecision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AutoShape 20"/>
          <p:cNvSpPr/>
          <p:nvPr/>
        </p:nvSpPr>
        <p:spPr>
          <a:xfrm>
            <a:off x="7423200" y="4730760"/>
            <a:ext cx="649080" cy="36180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Line 23"/>
          <p:cNvSpPr/>
          <p:nvPr/>
        </p:nvSpPr>
        <p:spPr>
          <a:xfrm flipH="1">
            <a:off x="7722720" y="4486320"/>
            <a:ext cx="18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414" name="AutoShape 24"/>
          <p:cNvCxnSpPr>
            <a:stCxn id="412" idx="2"/>
            <a:endCxn id="411" idx="0"/>
          </p:cNvCxnSpPr>
          <p:nvPr/>
        </p:nvCxnSpPr>
        <p:spPr>
          <a:xfrm>
            <a:off x="7748280" y="5092560"/>
            <a:ext cx="3960" cy="25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AutoShape 25"/>
          <p:cNvCxnSpPr>
            <a:stCxn id="411" idx="3"/>
            <a:endCxn id="412" idx="3"/>
          </p:cNvCxnSpPr>
          <p:nvPr/>
        </p:nvCxnSpPr>
        <p:spPr>
          <a:xfrm flipH="1" flipV="1">
            <a:off x="8071560" y="4911120"/>
            <a:ext cx="40680" cy="618120"/>
          </a:xfrm>
          <a:prstGeom prst="bentConnector3">
            <a:avLst>
              <a:gd name="adj1" fmla="val -575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6" name="Line 26"/>
          <p:cNvSpPr/>
          <p:nvPr/>
        </p:nvSpPr>
        <p:spPr>
          <a:xfrm flipH="1">
            <a:off x="7754400" y="5684760"/>
            <a:ext cx="18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Text Box 27"/>
          <p:cNvSpPr/>
          <p:nvPr/>
        </p:nvSpPr>
        <p:spPr>
          <a:xfrm>
            <a:off x="6354360" y="4135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Line 28"/>
          <p:cNvSpPr/>
          <p:nvPr/>
        </p:nvSpPr>
        <p:spPr>
          <a:xfrm>
            <a:off x="6708600" y="4024440"/>
            <a:ext cx="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Line 29"/>
          <p:cNvSpPr/>
          <p:nvPr/>
        </p:nvSpPr>
        <p:spPr>
          <a:xfrm>
            <a:off x="6807240" y="4049640"/>
            <a:ext cx="0" cy="140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Text Box 30"/>
          <p:cNvSpPr/>
          <p:nvPr/>
        </p:nvSpPr>
        <p:spPr>
          <a:xfrm>
            <a:off x="6634800" y="369900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Text Box 31"/>
          <p:cNvSpPr/>
          <p:nvPr/>
        </p:nvSpPr>
        <p:spPr>
          <a:xfrm>
            <a:off x="8086320" y="5246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Text Box 32"/>
          <p:cNvSpPr/>
          <p:nvPr/>
        </p:nvSpPr>
        <p:spPr>
          <a:xfrm>
            <a:off x="7761960" y="55990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7241760" y="2263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Text Box 34"/>
          <p:cNvSpPr/>
          <p:nvPr/>
        </p:nvSpPr>
        <p:spPr>
          <a:xfrm>
            <a:off x="7606440" y="185580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8E1C-27D3-4C25-BCE1-E72D47EEE5F5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íkaz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33240" indent="-24336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0" i="1" lang="en-US" sz="2400" spc="-1" strike="noStrike">
                <a:solidFill>
                  <a:srgbClr val="7030a0"/>
                </a:solidFill>
                <a:latin typeface="Constantia"/>
              </a:rPr>
              <a:t>ini</a:t>
            </a:r>
            <a:r>
              <a:rPr b="0" i="1" lang="cs-CZ" sz="2400" spc="-1" strike="noStrike">
                <a:solidFill>
                  <a:srgbClr val="7030a0"/>
                </a:solidFill>
                <a:latin typeface="Constantia"/>
              </a:rPr>
              <a:t>cializ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i="1" lang="en-US" sz="2400" spc="-1" strike="noStrike">
                <a:solidFill>
                  <a:srgbClr val="0070c0"/>
                </a:solidFill>
                <a:latin typeface="Constantia"/>
              </a:rPr>
              <a:t>podm</a:t>
            </a:r>
            <a:r>
              <a:rPr b="0" i="1" lang="cs-CZ" sz="2400" spc="-1" strike="noStrike">
                <a:solidFill>
                  <a:srgbClr val="0070c0"/>
                </a:solidFill>
                <a:latin typeface="Constantia"/>
              </a:rPr>
              <a:t>ínk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i="1" lang="en-US" sz="2400" spc="-1" strike="noStrike">
                <a:solidFill>
                  <a:srgbClr val="ffc000"/>
                </a:solidFill>
                <a:latin typeface="Constantia"/>
              </a:rPr>
              <a:t>krok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) </a:t>
            </a:r>
            <a:r>
              <a:rPr b="0" i="1" lang="en-US" sz="2400" spc="-1" strike="noStrike">
                <a:solidFill>
                  <a:srgbClr val="00b050"/>
                </a:solidFill>
                <a:latin typeface="Constantia"/>
              </a:rPr>
              <a:t>p</a:t>
            </a:r>
            <a:r>
              <a:rPr b="0" i="1" lang="cs-CZ" sz="2400" spc="-1" strike="noStrike">
                <a:solidFill>
                  <a:srgbClr val="00b050"/>
                </a:solidFill>
                <a:latin typeface="Constantia"/>
              </a:rPr>
              <a:t>říka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nstantia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i = 0; i &lt; 10; i++ )  {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ystem.println(“i=“ + i)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nstantia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Item i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: kolekce)  {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ystem.println(“i=“ + i.toString())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} //Od verze JAVA 5.0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i = 0; i &lt; 10; i++ ) {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if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( a[i] == x )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break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6276960" y="3317760"/>
            <a:ext cx="720720" cy="360360"/>
          </a:xfrm>
          <a:prstGeom prst="flowChartDecision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6307200" y="3979800"/>
            <a:ext cx="649080" cy="36216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430" name="AutoShape 6"/>
          <p:cNvCxnSpPr>
            <a:stCxn id="428" idx="2"/>
            <a:endCxn id="429" idx="0"/>
          </p:cNvCxnSpPr>
          <p:nvPr/>
        </p:nvCxnSpPr>
        <p:spPr>
          <a:xfrm flipH="1">
            <a:off x="6631920" y="3678120"/>
            <a:ext cx="540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Line 7"/>
          <p:cNvSpPr/>
          <p:nvPr/>
        </p:nvSpPr>
        <p:spPr>
          <a:xfrm>
            <a:off x="6634080" y="304488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6299280" y="2676600"/>
            <a:ext cx="649080" cy="361800"/>
          </a:xfrm>
          <a:prstGeom prst="flowChartProcess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AutoShape 9"/>
          <p:cNvSpPr/>
          <p:nvPr/>
        </p:nvSpPr>
        <p:spPr>
          <a:xfrm>
            <a:off x="6311880" y="4603680"/>
            <a:ext cx="649440" cy="235080"/>
          </a:xfrm>
          <a:prstGeom prst="flowChartProcess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Line 10"/>
          <p:cNvSpPr/>
          <p:nvPr/>
        </p:nvSpPr>
        <p:spPr>
          <a:xfrm>
            <a:off x="6640560" y="436104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435" name="AutoShape 11"/>
          <p:cNvCxnSpPr>
            <a:stCxn id="433" idx="2"/>
            <a:endCxn id="428" idx="1"/>
          </p:cNvCxnSpPr>
          <p:nvPr/>
        </p:nvCxnSpPr>
        <p:spPr>
          <a:xfrm flipV="1" rot="16200000">
            <a:off x="5786640" y="3988080"/>
            <a:ext cx="1340640" cy="361080"/>
          </a:xfrm>
          <a:prstGeom prst="bentConnector4">
            <a:avLst>
              <a:gd name="adj1" fmla="val -17056"/>
              <a:gd name="adj2" fmla="val 1633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Line 13"/>
          <p:cNvSpPr/>
          <p:nvPr/>
        </p:nvSpPr>
        <p:spPr>
          <a:xfrm>
            <a:off x="6991200" y="3503520"/>
            <a:ext cx="3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Line 14"/>
          <p:cNvSpPr/>
          <p:nvPr/>
        </p:nvSpPr>
        <p:spPr>
          <a:xfrm>
            <a:off x="7329600" y="3516480"/>
            <a:ext cx="0" cy="175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Text Box 15"/>
          <p:cNvSpPr/>
          <p:nvPr/>
        </p:nvSpPr>
        <p:spPr>
          <a:xfrm>
            <a:off x="6973200" y="31924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6608160" y="3586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357120" y="1857240"/>
            <a:ext cx="6886800" cy="3857760"/>
          </a:xfrm>
          <a:prstGeom prst="rect">
            <a:avLst/>
          </a:prstGeom>
          <a:solidFill>
            <a:srgbClr val="85dfd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48C9-8FB4-4AFB-82CD-C80466FDAD28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457200" y="1935000"/>
            <a:ext cx="6757920" cy="37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VypisParametru 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for( int i = 0; i &lt; args.length; i++ 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System.out.println(i + ”: “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args[i]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E34D-F714-49E9-8792-BC292B8C03B4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poru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čená literatur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Učebn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Eckel, B.: Myslíme v jazyce Java. Grada, 2000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http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//www.eckelobjects.com/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rout, P.: U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bnice 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jazyka Java. KOPP, 2000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ecinovský R.: </a:t>
            </a:r>
            <a:r>
              <a:rPr b="1" i="1" lang="cs-CZ" sz="2200" spc="-1" strike="noStrike">
                <a:solidFill>
                  <a:srgbClr val="000000"/>
                </a:solidFill>
                <a:latin typeface="Constantia"/>
              </a:rPr>
              <a:t>Myslíme objektově v jazyku Java 5.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Studijní materiály k tutoriálu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ttp://www.cs.vsb.cz/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navra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/vyuka/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esf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lidy z p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ředchozích kurzů výuky jazyka JAVA na katedř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http://www.cs.vsb.cz</a:t>
            </a:r>
            <a:r>
              <a:rPr b="0" lang="cs-CZ" sz="1900" spc="-1" strike="noStrike">
                <a:solidFill>
                  <a:srgbClr val="000000"/>
                </a:solidFill>
                <a:latin typeface="Constantia"/>
              </a:rPr>
              <a:t>/java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/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raktické cvičení – cviceni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.zi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Úloha 1 - Překlad a spuštění ukázkové tříd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Rozbalte v pracovním adresáři soubor priklad1.zip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rostudujte soubor Pokus.jav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Spusťte program ant, jenž vytvoří soubor Pokus.class a spustí jej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Úloha 2 - Vytvoření vlastního program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Na základě ukázkového programu vytvořte program pro řešení kvadratické rovnice, který z hodnot proměnných a, b, c typu double vypočítá hodnoty kořenů rovnice </a:t>
            </a:r>
            <a:r>
              <a:rPr b="0" i="1" lang="cs-CZ" sz="2200" spc="-1" strike="noStrike">
                <a:solidFill>
                  <a:srgbClr val="000000"/>
                </a:solidFill>
                <a:latin typeface="Constantia"/>
              </a:rPr>
              <a:t>ax^2+bx+c=0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Hodnoty proměnných a, b, c nastavte přímo v programu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ro výpočet druhé odmocniny použijte volání funkce Math.sqrt(x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320C-A0DA-4385-A4E5-9717F96120B3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Řešení: Kvadratická rovnic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50880"/>
            <a:ext cx="8229600" cy="46720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stat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r(double a,double b,double c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ouble d = b * b – 4 * a * c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( d &lt; 0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System.out.println(“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em</a:t>
            </a:r>
            <a:r>
              <a:rPr b="1" i="1" lang="cs-CZ" sz="1800" spc="-1" strike="noStrike">
                <a:solidFill>
                  <a:srgbClr val="000000"/>
                </a:solidFill>
                <a:latin typeface="Courier New"/>
              </a:rPr>
              <a:t>á reálné kořen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lse if( d == 0 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double x = - b / (2*a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System.out.println("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x=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x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 else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double x1 = (-b + Math.sqrt(d)) / (2*a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double x2 = (-b – Math.sqrt(d)) / (2*a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System.out.println("x1=" + x1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System.out.println("x2=" + x2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aktick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é cvičení – cviceni2.zi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Úloha 1 – Prostudování práce s parametry příkazového řádk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Rozbalte v pracovním adresáři soubor priklad2.zip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rostudujte a vyzkoušejte způsob práce s parametry příkazové řádky, včetně chybové vstupu (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Priklad1.java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Úloha 2 – Seřazení obsahu po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Vytvořte program, který vytiskne seřazené pole celočíselných hodnot zadaných jako parametry. (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Priklad2.java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Úloha 3 – Práce se standardním vstupe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rostudujte práci se standardním vstupe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Upravte program pro výpočet kvadratické rovnice, aby načítal data ze vstupu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004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ta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z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4FFF-2B2F-4AA6-8298-D5E5F2FC0503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Freeform 15"/>
          <p:cNvSpPr/>
          <p:nvPr/>
        </p:nvSpPr>
        <p:spPr>
          <a:xfrm>
            <a:off x="885960" y="2349360"/>
            <a:ext cx="2563560" cy="1886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Třídy a objek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1817640" y="2589120"/>
            <a:ext cx="492120" cy="4651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2027160" y="2841480"/>
            <a:ext cx="814320" cy="787680"/>
          </a:xfrm>
          <a:prstGeom prst="rect">
            <a:avLst/>
          </a:prstGeom>
          <a:solidFill>
            <a:srgbClr val="e2d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1406520" y="3278160"/>
            <a:ext cx="365040" cy="37944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Oval 7"/>
          <p:cNvSpPr/>
          <p:nvPr/>
        </p:nvSpPr>
        <p:spPr>
          <a:xfrm>
            <a:off x="3699000" y="4121280"/>
            <a:ext cx="871560" cy="420480"/>
          </a:xfrm>
          <a:prstGeom prst="ellipse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Oval 8"/>
          <p:cNvSpPr/>
          <p:nvPr/>
        </p:nvSpPr>
        <p:spPr>
          <a:xfrm>
            <a:off x="4303800" y="4836960"/>
            <a:ext cx="1574640" cy="61920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Oval 9"/>
          <p:cNvSpPr/>
          <p:nvPr/>
        </p:nvSpPr>
        <p:spPr>
          <a:xfrm>
            <a:off x="4851360" y="4471920"/>
            <a:ext cx="533520" cy="549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AutoShape 10"/>
          <p:cNvSpPr/>
          <p:nvPr/>
        </p:nvSpPr>
        <p:spPr>
          <a:xfrm>
            <a:off x="5857920" y="2854440"/>
            <a:ext cx="423720" cy="39348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5357880" y="3000240"/>
            <a:ext cx="942840" cy="646200"/>
          </a:xfrm>
          <a:prstGeom prst="triangle">
            <a:avLst>
              <a:gd name="adj" fmla="val 50000"/>
            </a:avLst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AutoShape 13"/>
          <p:cNvSpPr/>
          <p:nvPr/>
        </p:nvSpPr>
        <p:spPr>
          <a:xfrm>
            <a:off x="5857920" y="2643120"/>
            <a:ext cx="1336680" cy="104004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Freeform 16"/>
          <p:cNvSpPr/>
          <p:nvPr/>
        </p:nvSpPr>
        <p:spPr>
          <a:xfrm>
            <a:off x="3322800" y="3898800"/>
            <a:ext cx="3125520" cy="1773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Freeform 17"/>
          <p:cNvSpPr/>
          <p:nvPr/>
        </p:nvSpPr>
        <p:spPr>
          <a:xfrm>
            <a:off x="4857840" y="2357280"/>
            <a:ext cx="2689200" cy="143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Freeform 18"/>
          <p:cNvSpPr/>
          <p:nvPr/>
        </p:nvSpPr>
        <p:spPr>
          <a:xfrm>
            <a:off x="336600" y="2000160"/>
            <a:ext cx="8085240" cy="3900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Text Box 19"/>
          <p:cNvSpPr/>
          <p:nvPr/>
        </p:nvSpPr>
        <p:spPr>
          <a:xfrm>
            <a:off x="7659720" y="445788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6924960" y="3191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Text Box 21"/>
          <p:cNvSpPr/>
          <p:nvPr/>
        </p:nvSpPr>
        <p:spPr>
          <a:xfrm>
            <a:off x="5932440" y="43876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Text Box 22"/>
          <p:cNvSpPr/>
          <p:nvPr/>
        </p:nvSpPr>
        <p:spPr>
          <a:xfrm>
            <a:off x="1771560" y="379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AutoShape 12"/>
          <p:cNvSpPr/>
          <p:nvPr/>
        </p:nvSpPr>
        <p:spPr>
          <a:xfrm>
            <a:off x="6472080" y="2835360"/>
            <a:ext cx="578160" cy="434880"/>
          </a:xfrm>
          <a:prstGeom prst="triangle">
            <a:avLst>
              <a:gd name="adj" fmla="val 50000"/>
            </a:avLst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C3B7-6E6E-4A35-AF77-E12F980A8832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Co mají společného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lastnosti (stav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souřadnice středu x, 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barv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obsah, obvo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Operace (chování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řesunutí na jinou pozic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n-násobné zvětšení a zmenšen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vykreslení na obrazovk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zta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sousedí, překrývají se, ..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7B73-6634-40EA-ABBF-467EB256C259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 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čem se liší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Druh obraz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čtverec, trojúhelník, elip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Specifické vlastnos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élka strany čtve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velikosti poloos elips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odnoty vlastnost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konkrétní souřadnice, barva, 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Způsob provedení operac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vykreslení na obrazovk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AADB-3748-4627-A2A5-72F1F7456CAE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Grafická reprezentace tříd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1758960" y="1886040"/>
            <a:ext cx="5329080" cy="303840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Line 5"/>
          <p:cNvSpPr/>
          <p:nvPr/>
        </p:nvSpPr>
        <p:spPr>
          <a:xfrm>
            <a:off x="1744560" y="2589120"/>
            <a:ext cx="532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Line 6"/>
          <p:cNvSpPr/>
          <p:nvPr/>
        </p:nvSpPr>
        <p:spPr>
          <a:xfrm flipV="1">
            <a:off x="1744560" y="3741840"/>
            <a:ext cx="532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3676680" y="20192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Zlome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1851120" y="285588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čitatel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jmenovat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1862280" y="3773520"/>
            <a:ext cx="50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lomek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přičti(Zlomek jinýZlomek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lomek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náso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Zlomek jin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ý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lomek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normalizuj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AutoShape 11"/>
          <p:cNvSpPr/>
          <p:nvPr/>
        </p:nvSpPr>
        <p:spPr>
          <a:xfrm>
            <a:off x="1143000" y="1857240"/>
            <a:ext cx="2109960" cy="619200"/>
          </a:xfrm>
          <a:prstGeom prst="cloudCallout">
            <a:avLst>
              <a:gd name="adj1" fmla="val 70662"/>
              <a:gd name="adj2" fmla="val 14615"/>
            </a:avLst>
          </a:prstGeom>
          <a:solidFill>
            <a:srgbClr val="db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Jméno tříd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AutoShape 12"/>
          <p:cNvSpPr/>
          <p:nvPr/>
        </p:nvSpPr>
        <p:spPr>
          <a:xfrm>
            <a:off x="6765840" y="2448000"/>
            <a:ext cx="1955880" cy="730080"/>
          </a:xfrm>
          <a:prstGeom prst="cloudCallout">
            <a:avLst>
              <a:gd name="adj1" fmla="val -55194"/>
              <a:gd name="adj2" fmla="val 81523"/>
            </a:avLst>
          </a:prstGeom>
          <a:solidFill>
            <a:srgbClr val="db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Vlastnost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AutoShape 13"/>
          <p:cNvSpPr/>
          <p:nvPr/>
        </p:nvSpPr>
        <p:spPr>
          <a:xfrm>
            <a:off x="6727680" y="4648320"/>
            <a:ext cx="1955880" cy="730080"/>
          </a:xfrm>
          <a:prstGeom prst="cloudCallout">
            <a:avLst>
              <a:gd name="adj1" fmla="val -47240"/>
              <a:gd name="adj2" fmla="val -93912"/>
            </a:avLst>
          </a:prstGeom>
          <a:solidFill>
            <a:srgbClr val="db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pera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FB92-E2BC-496B-859A-12B2876B37EE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bjekt = instance t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íd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428760" y="1928880"/>
            <a:ext cx="2628720" cy="167328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Line 5"/>
          <p:cNvSpPr/>
          <p:nvPr/>
        </p:nvSpPr>
        <p:spPr>
          <a:xfrm>
            <a:off x="465120" y="2027160"/>
            <a:ext cx="2629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Line 6"/>
          <p:cNvSpPr/>
          <p:nvPr/>
        </p:nvSpPr>
        <p:spPr>
          <a:xfrm flipV="1">
            <a:off x="477720" y="2545920"/>
            <a:ext cx="2629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1484280" y="172872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Zlomek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598320" y="2109960"/>
            <a:ext cx="94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čitatel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jmenovatel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525600" y="2676600"/>
            <a:ext cx="255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Zlomek </a:t>
            </a:r>
            <a:r>
              <a:rPr b="1" lang="cs-CZ" sz="900" spc="-1" strike="noStrike">
                <a:solidFill>
                  <a:srgbClr val="000000"/>
                </a:solidFill>
                <a:latin typeface="Courier New"/>
              </a:rPr>
              <a:t>přičti(Zlomek jinýZlomek)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Zlomek </a:t>
            </a:r>
            <a:r>
              <a:rPr b="1" lang="cs-CZ" sz="900" spc="-1" strike="noStrike">
                <a:solidFill>
                  <a:srgbClr val="000000"/>
                </a:solidFill>
                <a:latin typeface="Courier New"/>
              </a:rPr>
              <a:t>násob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(Zlomek jin</a:t>
            </a:r>
            <a:r>
              <a:rPr b="1" lang="cs-CZ" sz="900" spc="-1" strike="noStrike">
                <a:solidFill>
                  <a:srgbClr val="000000"/>
                </a:solidFill>
                <a:latin typeface="Courier New"/>
              </a:rPr>
              <a:t>ý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Zlomek)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oid normalizuj()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Rectangle 10"/>
          <p:cNvSpPr/>
          <p:nvPr/>
        </p:nvSpPr>
        <p:spPr>
          <a:xfrm>
            <a:off x="4699080" y="2082960"/>
            <a:ext cx="1884240" cy="120960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Line 11"/>
          <p:cNvSpPr/>
          <p:nvPr/>
        </p:nvSpPr>
        <p:spPr>
          <a:xfrm>
            <a:off x="4699080" y="2517840"/>
            <a:ext cx="185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Text Box 14"/>
          <p:cNvSpPr/>
          <p:nvPr/>
        </p:nvSpPr>
        <p:spPr>
          <a:xfrm>
            <a:off x="4868640" y="210996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z1 : Zlome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Text Box 15"/>
          <p:cNvSpPr/>
          <p:nvPr/>
        </p:nvSpPr>
        <p:spPr>
          <a:xfrm>
            <a:off x="4696920" y="253044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čitat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l =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jmenovatel =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Rectangle 16"/>
          <p:cNvSpPr/>
          <p:nvPr/>
        </p:nvSpPr>
        <p:spPr>
          <a:xfrm>
            <a:off x="1187280" y="4352760"/>
            <a:ext cx="1884600" cy="120996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Line 17"/>
          <p:cNvSpPr/>
          <p:nvPr/>
        </p:nvSpPr>
        <p:spPr>
          <a:xfrm>
            <a:off x="1187280" y="4788000"/>
            <a:ext cx="185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Text Box 18"/>
          <p:cNvSpPr/>
          <p:nvPr/>
        </p:nvSpPr>
        <p:spPr>
          <a:xfrm>
            <a:off x="1357200" y="437976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z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: Zlome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Text Box 19"/>
          <p:cNvSpPr/>
          <p:nvPr/>
        </p:nvSpPr>
        <p:spPr>
          <a:xfrm>
            <a:off x="1185480" y="480060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čitat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l = -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jmenovatel =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Rectangle 20"/>
          <p:cNvSpPr/>
          <p:nvPr/>
        </p:nvSpPr>
        <p:spPr>
          <a:xfrm>
            <a:off x="3873600" y="3971880"/>
            <a:ext cx="1884240" cy="120960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Line 21"/>
          <p:cNvSpPr/>
          <p:nvPr/>
        </p:nvSpPr>
        <p:spPr>
          <a:xfrm>
            <a:off x="3873600" y="4406760"/>
            <a:ext cx="1854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Text Box 22"/>
          <p:cNvSpPr/>
          <p:nvPr/>
        </p:nvSpPr>
        <p:spPr>
          <a:xfrm>
            <a:off x="4043160" y="399888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z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: Zlome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Text Box 23"/>
          <p:cNvSpPr/>
          <p:nvPr/>
        </p:nvSpPr>
        <p:spPr>
          <a:xfrm>
            <a:off x="3871440" y="441972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čitat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l =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jmenovatel =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Line 24"/>
          <p:cNvSpPr/>
          <p:nvPr/>
        </p:nvSpPr>
        <p:spPr>
          <a:xfrm flipH="1" flipV="1">
            <a:off x="3081240" y="2405160"/>
            <a:ext cx="1617840" cy="45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Line 25"/>
          <p:cNvSpPr/>
          <p:nvPr/>
        </p:nvSpPr>
        <p:spPr>
          <a:xfrm flipH="1" flipV="1">
            <a:off x="3071520" y="3268800"/>
            <a:ext cx="111276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Line 26"/>
          <p:cNvSpPr/>
          <p:nvPr/>
        </p:nvSpPr>
        <p:spPr>
          <a:xfrm flipV="1">
            <a:off x="1960560" y="3281400"/>
            <a:ext cx="0" cy="10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1B96-21A6-4347-84BD-3E7112CD9492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Třídy v jazyce Ja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urier New"/>
              </a:rPr>
              <a:t>class Zlomek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cs-CZ" sz="2600" spc="-1" strike="noStrike">
                <a:solidFill>
                  <a:srgbClr val="000000"/>
                </a:solidFill>
                <a:latin typeface="Courier New"/>
              </a:rPr>
              <a:t>instanční proměnn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Courier New"/>
              </a:rPr>
              <a:t>citatel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Courier New"/>
              </a:rPr>
              <a:t>jmenovatel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cs-CZ" sz="2600" spc="-1" strike="noStrike">
                <a:solidFill>
                  <a:srgbClr val="000000"/>
                </a:solidFill>
                <a:latin typeface="Courier New"/>
              </a:rPr>
              <a:t>meto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Zlomek nasob(Zlomek jiny)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itatel    *= jiny.citatel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jmenovatel *= jiny.jmenovatel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0465-C198-4F25-9E99-6873ACC4F760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gramov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é vybaven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tt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//java.sun.com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Java SE Development Kit + dokumentac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ttp://ant.apache.org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Nástroj pro správu projekt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ývojová prostředí: Netbeans IDE, Eclipse, Borland JBuilder,Intelli JIdea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ditory: JEdit, PSPad, TextPad, gvim, ..., Notepa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0CAA-5906-48A6-8851-339D60B84FF9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Vytvoření instance tříd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lomek z = new Zlomek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i="1" lang="cs-CZ" sz="2400" spc="-1" strike="noStrike">
                <a:solidFill>
                  <a:srgbClr val="000000"/>
                </a:solidFill>
                <a:latin typeface="Courier New"/>
              </a:rPr>
              <a:t>nastavení instančních proměnný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.citatel = 2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.jmenovatel = 3;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i="1" lang="cs-CZ" sz="2400" spc="-1" strike="noStrike">
                <a:solidFill>
                  <a:srgbClr val="000000"/>
                </a:solidFill>
                <a:latin typeface="Courier New"/>
              </a:rPr>
              <a:t>volání met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.nasob(z)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z *= 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AutoShape 5"/>
          <p:cNvSpPr/>
          <p:nvPr/>
        </p:nvSpPr>
        <p:spPr>
          <a:xfrm>
            <a:off x="2671920" y="2236680"/>
            <a:ext cx="2138040" cy="703440"/>
          </a:xfrm>
          <a:prstGeom prst="cloudCallout">
            <a:avLst>
              <a:gd name="adj1" fmla="val -63509"/>
              <a:gd name="adj2" fmla="val 73250"/>
            </a:avLst>
          </a:prstGeom>
          <a:solidFill>
            <a:srgbClr val="0f6fc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Freeform 6"/>
          <p:cNvSpPr/>
          <p:nvPr/>
        </p:nvSpPr>
        <p:spPr>
          <a:xfrm>
            <a:off x="1928880" y="3286080"/>
            <a:ext cx="550800" cy="415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Freeform 7"/>
          <p:cNvSpPr/>
          <p:nvPr/>
        </p:nvSpPr>
        <p:spPr>
          <a:xfrm>
            <a:off x="2714760" y="3214800"/>
            <a:ext cx="2484360" cy="5522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9DAB-8BA0-4748-896F-9DEB3794E3CC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Jak se instance zruší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ascal, C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, C++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– je třeba volat speciální operac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kter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á uvolní paměť: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ascal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Dispose(ptr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: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Courier New"/>
              </a:rPr>
              <a:t>fre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ptr)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++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delete p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Java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, .NET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automatick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á správa paměti (garbage collecto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aměť se uvolní automaticky, pokud na ni neexistuje žádný odka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2EA1-7514-4A27-B2A4-4FD31B1D744F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Inicializace objekt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ajištění definovaného stavu objektu po jeho vytvoře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všechny proměnné objektu se nastaví na nul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-li uvedena inicializace, provede se nastave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209600" y="3852720"/>
            <a:ext cx="54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887400" y="3754440"/>
            <a:ext cx="7300800" cy="228852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class Tes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int x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o</a:t>
            </a:r>
            <a:r>
              <a:rPr b="1" i="1" lang="cs-CZ" sz="1800" spc="-1" strike="noStrike">
                <a:solidFill>
                  <a:srgbClr val="000000"/>
                </a:solidFill>
                <a:latin typeface="Courier New"/>
              </a:rPr>
              <a:t>č. hodnota je 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int y = 10;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i="1" lang="cs-CZ" sz="1800" spc="-1" strike="noStrike">
                <a:solidFill>
                  <a:srgbClr val="000000"/>
                </a:solidFill>
                <a:latin typeface="Courier New"/>
              </a:rPr>
              <a:t>poč. hodnota je 10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int m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int z;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// POZ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 zde to neplat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í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return z + 1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hyba – neinicializovan</a:t>
            </a:r>
            <a:r>
              <a:rPr b="1" i="1" lang="cs-CZ" sz="1800" spc="-1" strike="noStrike">
                <a:solidFill>
                  <a:srgbClr val="000000"/>
                </a:solidFill>
                <a:latin typeface="Courier New"/>
              </a:rPr>
              <a:t>á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}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//         </a:t>
            </a:r>
            <a:r>
              <a:rPr b="1" i="1" lang="cs-CZ" sz="1800" spc="-1" strike="noStrike">
                <a:solidFill>
                  <a:srgbClr val="000000"/>
                </a:solidFill>
                <a:latin typeface="Courier New"/>
              </a:rPr>
              <a:t>proměnná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1" i="1" lang="cs-CZ" sz="1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’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2769-D4F7-4361-8227-BFF6FECF5467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Konstruk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ajištění inicializace objektu po vytvoře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39720" y="2573280"/>
            <a:ext cx="762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729000" y="2457360"/>
            <a:ext cx="7861680" cy="375156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class Zlomek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lomek(int citatel, int jmenovatel) 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.citatel = citate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.jmenovatel = jmenovate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lomek z1 = new Zlomek(3, 4)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 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lomek z2 = z1.pricti(new Zlomek(1,2)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AutoShape 6"/>
          <p:cNvSpPr/>
          <p:nvPr/>
        </p:nvSpPr>
        <p:spPr>
          <a:xfrm>
            <a:off x="0" y="3192480"/>
            <a:ext cx="2166840" cy="1055520"/>
          </a:xfrm>
          <a:prstGeom prst="cloudCallout">
            <a:avLst>
              <a:gd name="adj1" fmla="val 60476"/>
              <a:gd name="adj2" fmla="val -47143"/>
            </a:avLst>
          </a:prstGeom>
          <a:solidFill>
            <a:srgbClr val="0f6fc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430920" y="340344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nen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í typ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výsledku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AutoShape 8"/>
          <p:cNvSpPr/>
          <p:nvPr/>
        </p:nvSpPr>
        <p:spPr>
          <a:xfrm>
            <a:off x="3122640" y="4233960"/>
            <a:ext cx="2657520" cy="1028520"/>
          </a:xfrm>
          <a:prstGeom prst="cloudCallout">
            <a:avLst>
              <a:gd name="adj1" fmla="val -55856"/>
              <a:gd name="adj2" fmla="val -77777"/>
            </a:avLst>
          </a:prstGeom>
          <a:solidFill>
            <a:srgbClr val="0f6fc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3621600" y="433224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dkaz n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ktu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ální objek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Oval 10"/>
          <p:cNvSpPr/>
          <p:nvPr/>
        </p:nvSpPr>
        <p:spPr>
          <a:xfrm>
            <a:off x="2462040" y="3559320"/>
            <a:ext cx="914400" cy="422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99F2-2915-404C-AA6F-B3ACEC2E858F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říkl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public class Cita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hodnota = 0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tac(int pocatek) { hodnota = pocatek; }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krok() { hodnota++; }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tac c = new Citac(10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.krok(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c.hodnota)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/ 11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C7E8-FF00-431D-A0A6-8C2AD575EE0C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Jak si hlídat svá data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class Cita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i="1" lang="cs-CZ" sz="2400" spc="-1" strike="noStrike">
                <a:solidFill>
                  <a:srgbClr val="000000"/>
                </a:solidFill>
                <a:latin typeface="Courier New"/>
              </a:rPr>
              <a:t>řejné met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ublic void nastavHodnotu(int nova) 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hodnota = nova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ublic int vratHodnotu() {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return hodnota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krok() { hodnota++; 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i="1" lang="cs-CZ" sz="2400" spc="-1" strike="noStrike">
                <a:solidFill>
                  <a:srgbClr val="000000"/>
                </a:solidFill>
                <a:latin typeface="Courier New"/>
              </a:rPr>
              <a:t>soukromá proměnn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int hodnota = 0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Freeform 5"/>
          <p:cNvSpPr/>
          <p:nvPr/>
        </p:nvSpPr>
        <p:spPr>
          <a:xfrm>
            <a:off x="642960" y="2571840"/>
            <a:ext cx="1569960" cy="415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Freeform 6"/>
          <p:cNvSpPr/>
          <p:nvPr/>
        </p:nvSpPr>
        <p:spPr>
          <a:xfrm>
            <a:off x="714240" y="5072040"/>
            <a:ext cx="1578240" cy="6541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896F-1F69-448A-B45D-132A1275CF73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Jak si hlídat svá data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class Tes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 args[]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Citac 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 new Citac(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// c.hodnota = 10;   -- nen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í přípustn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b050"/>
                </a:solidFill>
                <a:latin typeface="Courier New"/>
              </a:rPr>
              <a:t>c.nastavHodnotu(10)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.krok(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c.vratHodnotu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4CA4-A506-47D7-B57D-5DAD25159377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Statické členy tříd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Instanční proměnné a meto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sou vázané vždy na nějaký objekt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obj.proměnná, obj.metoda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roměnné a metody tří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polečné pro všechny instanc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Třída.proměnná, Třída.metoda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značují se klíčovým slovem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tatic int poč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 void main(String[] args) {…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6575-D24C-4C78-8C3D-2F1AB0F1008D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íkl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class T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static int pocet = 0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r</a:t>
            </a:r>
            <a:r>
              <a:rPr b="1" i="1" lang="cs-CZ" sz="2400" spc="-1" strike="noStrike">
                <a:solidFill>
                  <a:srgbClr val="000000"/>
                </a:solidFill>
                <a:latin typeface="Courier New"/>
              </a:rPr>
              <a:t>átí počet vytvořených instancí tří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int pocetInstanci() 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pocet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Test(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cet++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Freeform 4"/>
          <p:cNvSpPr/>
          <p:nvPr/>
        </p:nvSpPr>
        <p:spPr>
          <a:xfrm>
            <a:off x="2214720" y="2357280"/>
            <a:ext cx="1277640" cy="443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Freeform 5"/>
          <p:cNvSpPr/>
          <p:nvPr/>
        </p:nvSpPr>
        <p:spPr>
          <a:xfrm>
            <a:off x="2071800" y="3214800"/>
            <a:ext cx="1226880" cy="4730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říklad - pokračován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tring args[]) 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“P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čet instanc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“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.pocetInstanci()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 t2 = new Test(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“P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čet instanc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“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.pocetInstanci()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6D6D-B658-4863-9B2B-C17681F23D79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Vznik jazyk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8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Motivace: Jazyk pro tvorbu programového vybavení pro spotřební elektroniku – pračky, diáře, mikrovlnné trouby, 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ožadavky: nezávislost na procesoru, spolehlivost, jednoduchost, robustnos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1990 - James Gosling, Sun – jazyk Oa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1993 – Internet + WWW = nové aplik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un HotJava – prohlížeč s apple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23. 1. 1996 – JDK 1.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prvn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í implement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2004 – JDK 1.5 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gt; JDK 5 Tiger – nov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é prvky jazyk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osinec 2006 – JDK 6 – aktuální verz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6" name="Picture 5" descr="James Gosling"/>
          <p:cNvPicPr/>
          <p:nvPr/>
        </p:nvPicPr>
        <p:blipFill>
          <a:blip r:embed="rId1"/>
          <a:stretch/>
        </p:blipFill>
        <p:spPr>
          <a:xfrm>
            <a:off x="6443640" y="26028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06DA-C633-479E-8094-6F395D53532A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ědično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3432240" y="1701720"/>
            <a:ext cx="2265120" cy="14065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Line 5"/>
          <p:cNvSpPr/>
          <p:nvPr/>
        </p:nvSpPr>
        <p:spPr>
          <a:xfrm flipV="1">
            <a:off x="3417840" y="2080800"/>
            <a:ext cx="2265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4032720" y="16876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Obraze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3494160" y="21016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Line 9"/>
          <p:cNvSpPr/>
          <p:nvPr/>
        </p:nvSpPr>
        <p:spPr>
          <a:xfrm flipV="1">
            <a:off x="3432240" y="2687400"/>
            <a:ext cx="22669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478680" y="27068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esun(x1, y1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AutoShape 11"/>
          <p:cNvSpPr/>
          <p:nvPr/>
        </p:nvSpPr>
        <p:spPr>
          <a:xfrm>
            <a:off x="4361040" y="3419640"/>
            <a:ext cx="338040" cy="2952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Line 12"/>
          <p:cNvSpPr/>
          <p:nvPr/>
        </p:nvSpPr>
        <p:spPr>
          <a:xfrm flipV="1">
            <a:off x="4516560" y="312264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Rectangle 13"/>
          <p:cNvSpPr/>
          <p:nvPr/>
        </p:nvSpPr>
        <p:spPr>
          <a:xfrm>
            <a:off x="1911240" y="4094280"/>
            <a:ext cx="1506600" cy="81576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Line 14"/>
          <p:cNvSpPr/>
          <p:nvPr/>
        </p:nvSpPr>
        <p:spPr>
          <a:xfrm>
            <a:off x="1898640" y="4444920"/>
            <a:ext cx="150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Text Box 16"/>
          <p:cNvSpPr/>
          <p:nvPr/>
        </p:nvSpPr>
        <p:spPr>
          <a:xfrm>
            <a:off x="2053080" y="40924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Čtvere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Text Box 17"/>
          <p:cNvSpPr/>
          <p:nvPr/>
        </p:nvSpPr>
        <p:spPr>
          <a:xfrm>
            <a:off x="2058840" y="450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int 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Rectangle 18"/>
          <p:cNvSpPr/>
          <p:nvPr/>
        </p:nvSpPr>
        <p:spPr>
          <a:xfrm>
            <a:off x="5221440" y="4084560"/>
            <a:ext cx="1506240" cy="109692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Line 19"/>
          <p:cNvSpPr/>
          <p:nvPr/>
        </p:nvSpPr>
        <p:spPr>
          <a:xfrm>
            <a:off x="5227560" y="4435560"/>
            <a:ext cx="148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Text Box 20"/>
          <p:cNvSpPr/>
          <p:nvPr/>
        </p:nvSpPr>
        <p:spPr>
          <a:xfrm>
            <a:off x="5369760" y="408312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Elips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Text Box 21"/>
          <p:cNvSpPr/>
          <p:nvPr/>
        </p:nvSpPr>
        <p:spPr>
          <a:xfrm>
            <a:off x="5369040" y="44989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int 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int 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Line 22"/>
          <p:cNvSpPr/>
          <p:nvPr/>
        </p:nvSpPr>
        <p:spPr>
          <a:xfrm flipH="1">
            <a:off x="2681280" y="3713040"/>
            <a:ext cx="1679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Line 23"/>
          <p:cNvSpPr/>
          <p:nvPr/>
        </p:nvSpPr>
        <p:spPr>
          <a:xfrm>
            <a:off x="2687760" y="37004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Line 24"/>
          <p:cNvSpPr/>
          <p:nvPr/>
        </p:nvSpPr>
        <p:spPr>
          <a:xfrm flipV="1">
            <a:off x="4684680" y="3708000"/>
            <a:ext cx="1336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Line 26"/>
          <p:cNvSpPr/>
          <p:nvPr/>
        </p:nvSpPr>
        <p:spPr>
          <a:xfrm>
            <a:off x="6035760" y="371304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EFA0-B98F-4109-9D42-E81A15462FE9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Dědično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class Obraze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int x, y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void presun(int x, int y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.x = x; this.y = y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Ctverec extends Obrazec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int a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Freeform 4"/>
          <p:cNvSpPr/>
          <p:nvPr/>
        </p:nvSpPr>
        <p:spPr>
          <a:xfrm>
            <a:off x="2928960" y="4357800"/>
            <a:ext cx="3133800" cy="685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844A-76FF-438F-A934-EBA2BFE8E24C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ědično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Je-li něco čtverec, pak je to i obraze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Je-li něco obrazec, nemusí to být čtvere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3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1071720" y="2357280"/>
            <a:ext cx="7400880" cy="100872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Ctverec 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new Ctverec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.presun(10, 20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i="1" lang="cs-CZ" sz="2000" spc="-1" strike="noStrike">
                <a:solidFill>
                  <a:srgbClr val="000000"/>
                </a:solidFill>
                <a:latin typeface="Courier New"/>
              </a:rPr>
              <a:t>dědí metodu presun()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Obrazec 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c;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// lze přiřadi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1068480" y="3967200"/>
            <a:ext cx="7358040" cy="100872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razec o = new Ctverec(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o.a = 5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nep</a:t>
            </a:r>
            <a:r>
              <a:rPr b="1" i="1" lang="cs-CZ" sz="2000" spc="-1" strike="noStrike">
                <a:solidFill>
                  <a:srgbClr val="ff0000"/>
                </a:solidFill>
                <a:latin typeface="Courier New"/>
              </a:rPr>
              <a:t>řípustn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Courier New"/>
              </a:rPr>
              <a:t>// Ctverec c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= o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nep</a:t>
            </a:r>
            <a:r>
              <a:rPr b="1" i="1" lang="cs-CZ" sz="2000" spc="-1" strike="noStrike">
                <a:solidFill>
                  <a:srgbClr val="ff0000"/>
                </a:solidFill>
                <a:latin typeface="Courier New"/>
              </a:rPr>
              <a:t>řípustn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3F3F-509C-400C-A227-82A323ED0721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Dědično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Není-li uvedena bázová třída, použije se java.lang.Object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tring to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řevod objektu na textovou reprezentaci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oolean equal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ect obj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orovn</a:t>
            </a: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ání s jiným objekte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nt hashcod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číselný kód objektu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Object clone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vytvoření kopie objektu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FC17-A2A5-4E91-8DC0-84A8E92C621D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Zapouzd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ení prvků tříd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Soukromé proměnné/metody – priv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ístupné pouze z vlastních met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hr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áněné proměnné/metody – protec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ístupné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 metod zděděných tří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eřejné proměnné/metody – publ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ístupné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 metod jiných objekt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6C4A-8A70-4A54-9607-C972FDE20630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Konstruktory a dědično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nstruktor musí nejprve zavolat zděděný konstruktor – zajištění správné inicializ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789120" y="2530440"/>
            <a:ext cx="7551720" cy="375300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razec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public Obrazec(int x, int y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this.x = x; this.y = y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protected int x, y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tverec extends Obrazec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public Ctverec(int x, int y, int a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super(x, y); this.a = a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protected int a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Freeform 5"/>
          <p:cNvSpPr/>
          <p:nvPr/>
        </p:nvSpPr>
        <p:spPr>
          <a:xfrm>
            <a:off x="1676520" y="4964040"/>
            <a:ext cx="2052360" cy="4860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E4B7-0D89-45D3-9A92-B7FDECC3BE14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onstruktory a d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ědično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Není-li zděděný konstruktor zavolán, zajistí se volání </a:t>
            </a:r>
            <a:r>
              <a:rPr b="0" i="1" lang="cs-CZ" sz="2600" spc="-1" strike="noStrike">
                <a:solidFill>
                  <a:srgbClr val="000000"/>
                </a:solidFill>
                <a:latin typeface="Constantia"/>
              </a:rPr>
              <a:t>implicitního konstrukto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571680" y="2571840"/>
            <a:ext cx="7337160" cy="388224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b050"/>
                </a:solidFill>
                <a:latin typeface="Courier New"/>
              </a:rPr>
              <a:t>class Citac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   public </a:t>
            </a:r>
            <a:r>
              <a:rPr b="1" lang="cs-CZ" sz="1600" spc="-1" strike="noStrike">
                <a:solidFill>
                  <a:srgbClr val="00b050"/>
                </a:solidFill>
                <a:latin typeface="Courier New"/>
              </a:rPr>
              <a:t>Citac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() {</a:t>
            </a:r>
            <a:r>
              <a:rPr b="1" lang="cs-CZ" sz="1600" spc="-1" strike="noStrike">
                <a:solidFill>
                  <a:srgbClr val="00b050"/>
                </a:solidFill>
                <a:latin typeface="Courier New"/>
              </a:rPr>
              <a:t> hodnota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 = 1</a:t>
            </a:r>
            <a:r>
              <a:rPr b="1" lang="cs-CZ" sz="1600" spc="-1" strike="noStrike">
                <a:solidFill>
                  <a:srgbClr val="00b050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; }</a:t>
            </a:r>
            <a:br>
              <a:rPr sz="1600"/>
            </a:b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   protected int </a:t>
            </a:r>
            <a:r>
              <a:rPr b="1" lang="cs-CZ" sz="1600" spc="-1" strike="noStrike">
                <a:solidFill>
                  <a:srgbClr val="00b050"/>
                </a:solidFill>
                <a:latin typeface="Courier New"/>
              </a:rPr>
              <a:t>hodnota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}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CitacSKrokem extends Citac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public CitacSKrokem(int krok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super()  -- zavol</a:t>
            </a:r>
            <a:r>
              <a:rPr b="1" i="1" lang="cs-CZ" sz="1600" spc="-1" strike="noStrike">
                <a:solidFill>
                  <a:srgbClr val="000000"/>
                </a:solidFill>
                <a:latin typeface="Courier New"/>
              </a:rPr>
              <a:t>á se automatick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this.krok = krok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protected int krok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volitelnyKrok() {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stavHodnotu(vratHodnotu()+krok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íkl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25232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tacSKrokem lepsiCitac = new CitacSKrokem(5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psiCitac.volitelnyKrok(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lepsiCitac.vratHodnotu()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psiCitac.krok()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lepsiCitac.vratHodnotu()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CACE-A7D0-4604-8888-9755DE21335C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onstruktory a d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ědično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Neexistuje-li </a:t>
            </a:r>
            <a:r>
              <a:rPr b="0" i="1" lang="cs-CZ" sz="2800" spc="-1" strike="noStrike">
                <a:solidFill>
                  <a:srgbClr val="000000"/>
                </a:solidFill>
                <a:latin typeface="Constantia"/>
              </a:rPr>
              <a:t>žádný</a:t>
            </a: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 konstruktor, vytvoří se prázdný implicitní konstrukt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909720" y="2662200"/>
            <a:ext cx="7338960" cy="131364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class Cita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   // public Cita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 {}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vytvo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ří se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 int poce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463680" y="4003560"/>
            <a:ext cx="82296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Jak zajistit, aby nebylo možné vytvořit instanci třídy voláním operátoru new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900000" y="4902120"/>
            <a:ext cx="7338960" cy="131364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class Cita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   private Cita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 {}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254E-C215-4E06-9C9B-FE8A73EF29E5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vidence oso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09556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ublic class Osob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ublic String login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ublic String jmeno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ublic String prijmeni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428760" y="403236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oblémy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795600" y="4622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Osoba o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new Osoba()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os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os.log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“bon007”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80BB-2660-479F-A02E-B9A06CB3B565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řeklad a spuštění program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468360" y="4365720"/>
            <a:ext cx="1800000" cy="865080"/>
          </a:xfrm>
          <a:prstGeom prst="flowChartDocumen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2484360" y="2781360"/>
            <a:ext cx="158292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5148360" y="4437000"/>
            <a:ext cx="50328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134880" y="28004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javac Test.jav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5552640" y="44370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java Tes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AutoShape 12"/>
          <p:cNvSpPr/>
          <p:nvPr/>
        </p:nvSpPr>
        <p:spPr>
          <a:xfrm>
            <a:off x="5219640" y="5157720"/>
            <a:ext cx="1079640" cy="432000"/>
          </a:xfrm>
          <a:prstGeom prst="flowChartPreparation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Line 13"/>
          <p:cNvSpPr/>
          <p:nvPr/>
        </p:nvSpPr>
        <p:spPr>
          <a:xfrm>
            <a:off x="6445080" y="53737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4078440" y="573408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JIT – Just-In-Time překl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Line 15"/>
          <p:cNvSpPr/>
          <p:nvPr/>
        </p:nvSpPr>
        <p:spPr>
          <a:xfrm flipV="1">
            <a:off x="5580000" y="3212640"/>
            <a:ext cx="100800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1116000" y="1700280"/>
            <a:ext cx="2519280" cy="865080"/>
          </a:xfrm>
          <a:prstGeom prst="flowChartInputOutpu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est.jav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6248880" y="34480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javap Tes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AutoShape 18"/>
          <p:cNvSpPr/>
          <p:nvPr/>
        </p:nvSpPr>
        <p:spPr>
          <a:xfrm>
            <a:off x="6732720" y="2492280"/>
            <a:ext cx="1511280" cy="865440"/>
          </a:xfrm>
          <a:prstGeom prst="flowChartDisplay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zpětný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překl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AutoShape 19"/>
          <p:cNvSpPr/>
          <p:nvPr/>
        </p:nvSpPr>
        <p:spPr>
          <a:xfrm>
            <a:off x="4140360" y="3429000"/>
            <a:ext cx="1584000" cy="825480"/>
          </a:xfrm>
          <a:prstGeom prst="flowChartOnlineStorag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est.clas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Line 20"/>
          <p:cNvSpPr/>
          <p:nvPr/>
        </p:nvSpPr>
        <p:spPr>
          <a:xfrm flipH="1">
            <a:off x="2410920" y="4221000"/>
            <a:ext cx="158436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Text Box 21"/>
          <p:cNvSpPr/>
          <p:nvPr/>
        </p:nvSpPr>
        <p:spPr>
          <a:xfrm>
            <a:off x="2697120" y="460044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javadoc Test.jav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466200" y="539280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okumenta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Text Box 23"/>
          <p:cNvSpPr/>
          <p:nvPr/>
        </p:nvSpPr>
        <p:spPr>
          <a:xfrm>
            <a:off x="3439080" y="1865160"/>
            <a:ext cx="21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zdrojov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ý progra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AutoShape 24"/>
          <p:cNvSpPr/>
          <p:nvPr/>
        </p:nvSpPr>
        <p:spPr>
          <a:xfrm>
            <a:off x="7308720" y="5013360"/>
            <a:ext cx="1441440" cy="720720"/>
          </a:xfrm>
          <a:prstGeom prst="flowChartDisplay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výsledk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ECD4-9C46-4DF0-ACCB-40AA41908F30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. probl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ém - inicializa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Osoba {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public Osob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ing l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ing jm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ing p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login = l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jmeno = j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jmeni = p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…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soba os = new Osoba(“aaa000”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“Johnny”, “Walker”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6811-64D6-46BD-8C55-45AF17504091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probl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ém - zobrazen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s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Osoba@2ae3645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Osoba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ublic String toString(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return jmeno + " " + prijmeni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"os = " + os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os = Johnny Walk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4130640" y="2346480"/>
            <a:ext cx="2102040" cy="900000"/>
          </a:xfrm>
          <a:prstGeom prst="cloudCallout">
            <a:avLst>
              <a:gd name="adj1" fmla="val -69333"/>
              <a:gd name="adj2" fmla="val -4858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onstantia"/>
              </a:rPr>
              <a:t>Kdo je to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EDDB-C033-4046-8A00-A3E93D9A00D0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3. probl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ém - zapouzdřen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class Osob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rivate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ing login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ing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getLog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return login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etLog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ing login) {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  // tady by měla být kontro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.login = login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93FB-7C11-448F-9288-12E33A22A553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4. problém - identi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Osoba o1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new Osoba(“007”,“James”,“Bond”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soba o2 = new Osoba(“007”,”James”,”Bond”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lat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í o1 == o2 ?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cs-CZ" sz="2400" spc="-1" strike="noStrike">
                <a:solidFill>
                  <a:srgbClr val="003399"/>
                </a:solidFill>
                <a:latin typeface="Courier New"/>
              </a:rPr>
              <a:t>equal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ect obj) 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( obj instanceof Osoba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login.equals(((Osoba)obj).login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4572000" y="3214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99"/>
                </a:solidFill>
                <a:latin typeface="Courier New"/>
              </a:rPr>
              <a:t>Ne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! R</a:t>
            </a:r>
            <a:r>
              <a:rPr b="1" lang="cs-CZ" sz="1800" spc="-1" strike="noStrike">
                <a:solidFill>
                  <a:srgbClr val="003399"/>
                </a:solidFill>
                <a:latin typeface="Courier New"/>
              </a:rPr>
              <a:t>ůzné objek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ED9F-957F-4E73-873B-A3B0970B10B9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í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lad - D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ědično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34440" y="1719360"/>
            <a:ext cx="8504280" cy="441144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class Student extends Osob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ublic Student(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ing login,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ing jmeno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ing prijmeni,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ing obor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super(login, jmeno, prijmeni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this.obor = obor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ublic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ing getObor() { return obor;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ublic void setObor(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ing ob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obor = ob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rivate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ing obor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8F26-18D9-489E-8893-2BA82A3377B0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raktické cvičení – cviceni3.zi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Úloha 1 – Práce s třídami a objekt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Rozbalte v pracovním adresáři soubor cviceni3.zip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rostudujte a vyzkoušejte způsob práce s třídou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Zlomek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Priklad1.java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Vytvořte třídu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Complex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, která bude reprezentovat komplexní číslo s operacemi sčítání, odčítání a násoben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Upravte řešení kvadratické rovnice tak, aby pracovalo s typem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Complex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BEEB-E449-4F68-AB5A-DC207F7A7F4D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říklad -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braz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3124080" y="1722600"/>
            <a:ext cx="2316240" cy="105084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Line 5"/>
          <p:cNvSpPr/>
          <p:nvPr/>
        </p:nvSpPr>
        <p:spPr>
          <a:xfrm>
            <a:off x="3124080" y="2103480"/>
            <a:ext cx="230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3703680" y="17575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Obraze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1631880" y="3367080"/>
            <a:ext cx="1692360" cy="86688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Text Box 10"/>
          <p:cNvSpPr/>
          <p:nvPr/>
        </p:nvSpPr>
        <p:spPr>
          <a:xfrm>
            <a:off x="2030040" y="33876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Kru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Line 11"/>
          <p:cNvSpPr/>
          <p:nvPr/>
        </p:nvSpPr>
        <p:spPr>
          <a:xfrm>
            <a:off x="1646280" y="37782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Rectangle 12"/>
          <p:cNvSpPr/>
          <p:nvPr/>
        </p:nvSpPr>
        <p:spPr>
          <a:xfrm>
            <a:off x="5108400" y="3384720"/>
            <a:ext cx="1692360" cy="82224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Text Box 13"/>
          <p:cNvSpPr/>
          <p:nvPr/>
        </p:nvSpPr>
        <p:spPr>
          <a:xfrm>
            <a:off x="5324040" y="34052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Obdélní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Line 14"/>
          <p:cNvSpPr/>
          <p:nvPr/>
        </p:nvSpPr>
        <p:spPr>
          <a:xfrm>
            <a:off x="5122800" y="379584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Rectangle 15"/>
          <p:cNvSpPr/>
          <p:nvPr/>
        </p:nvSpPr>
        <p:spPr>
          <a:xfrm>
            <a:off x="5141880" y="4925880"/>
            <a:ext cx="1692360" cy="82260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Text Box 16"/>
          <p:cNvSpPr/>
          <p:nvPr/>
        </p:nvSpPr>
        <p:spPr>
          <a:xfrm>
            <a:off x="5376960" y="494676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Čtvere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Line 17"/>
          <p:cNvSpPr/>
          <p:nvPr/>
        </p:nvSpPr>
        <p:spPr>
          <a:xfrm>
            <a:off x="5156280" y="53370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AutoShape 18"/>
          <p:cNvSpPr/>
          <p:nvPr/>
        </p:nvSpPr>
        <p:spPr>
          <a:xfrm>
            <a:off x="4175280" y="2971800"/>
            <a:ext cx="274320" cy="244440"/>
          </a:xfrm>
          <a:prstGeom prst="triangle">
            <a:avLst>
              <a:gd name="adj" fmla="val 50000"/>
            </a:avLst>
          </a:prstGeom>
          <a:solidFill>
            <a:srgbClr val="db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Line 19"/>
          <p:cNvSpPr/>
          <p:nvPr/>
        </p:nvSpPr>
        <p:spPr>
          <a:xfrm flipH="1">
            <a:off x="2392200" y="3216240"/>
            <a:ext cx="17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Line 20"/>
          <p:cNvSpPr/>
          <p:nvPr/>
        </p:nvSpPr>
        <p:spPr>
          <a:xfrm>
            <a:off x="2378160" y="321624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Line 21"/>
          <p:cNvSpPr/>
          <p:nvPr/>
        </p:nvSpPr>
        <p:spPr>
          <a:xfrm>
            <a:off x="4449600" y="3230640"/>
            <a:ext cx="147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Line 22"/>
          <p:cNvSpPr/>
          <p:nvPr/>
        </p:nvSpPr>
        <p:spPr>
          <a:xfrm>
            <a:off x="5927760" y="3230640"/>
            <a:ext cx="1440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Line 23"/>
          <p:cNvSpPr/>
          <p:nvPr/>
        </p:nvSpPr>
        <p:spPr>
          <a:xfrm flipV="1">
            <a:off x="4313160" y="277308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AutoShape 24"/>
          <p:cNvSpPr/>
          <p:nvPr/>
        </p:nvSpPr>
        <p:spPr>
          <a:xfrm>
            <a:off x="5838840" y="4406760"/>
            <a:ext cx="274680" cy="244440"/>
          </a:xfrm>
          <a:prstGeom prst="triangle">
            <a:avLst>
              <a:gd name="adj" fmla="val 50000"/>
            </a:avLst>
          </a:prstGeom>
          <a:solidFill>
            <a:srgbClr val="db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Line 25"/>
          <p:cNvSpPr/>
          <p:nvPr/>
        </p:nvSpPr>
        <p:spPr>
          <a:xfrm flipV="1">
            <a:off x="5977080" y="420804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Line 26"/>
          <p:cNvSpPr/>
          <p:nvPr/>
        </p:nvSpPr>
        <p:spPr>
          <a:xfrm flipV="1">
            <a:off x="5927760" y="4648320"/>
            <a:ext cx="4608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Text Box 27"/>
          <p:cNvSpPr/>
          <p:nvPr/>
        </p:nvSpPr>
        <p:spPr>
          <a:xfrm>
            <a:off x="3779280" y="210996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bvod(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bsah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3" name="Line 28"/>
          <p:cNvSpPr/>
          <p:nvPr/>
        </p:nvSpPr>
        <p:spPr>
          <a:xfrm>
            <a:off x="3141720" y="2166840"/>
            <a:ext cx="230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Text Box 29"/>
          <p:cNvSpPr/>
          <p:nvPr/>
        </p:nvSpPr>
        <p:spPr>
          <a:xfrm>
            <a:off x="2301840" y="37861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Text Box 30"/>
          <p:cNvSpPr/>
          <p:nvPr/>
        </p:nvSpPr>
        <p:spPr>
          <a:xfrm>
            <a:off x="5682960" y="381636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Rectangle 15"/>
          <p:cNvSpPr/>
          <p:nvPr/>
        </p:nvSpPr>
        <p:spPr>
          <a:xfrm>
            <a:off x="5143680" y="4929120"/>
            <a:ext cx="1692000" cy="82224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8708-5273-46BF-B93A-D9DF0BDEF3B8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Definice třídy Obrazec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class Obraze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double obvo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.0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 obsah() 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.0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AutoShape 4"/>
          <p:cNvSpPr/>
          <p:nvPr/>
        </p:nvSpPr>
        <p:spPr>
          <a:xfrm>
            <a:off x="5059440" y="2408400"/>
            <a:ext cx="3063960" cy="1660320"/>
          </a:xfrm>
          <a:prstGeom prst="cloudCallout">
            <a:avLst>
              <a:gd name="adj1" fmla="val -72074"/>
              <a:gd name="adj2" fmla="val -61282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Jak vypadá Obrazec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onstantia"/>
              </a:rPr>
              <a:t>Je to ABSTRAKCE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Line 5"/>
          <p:cNvSpPr/>
          <p:nvPr/>
        </p:nvSpPr>
        <p:spPr>
          <a:xfrm flipV="1">
            <a:off x="1020600" y="2209320"/>
            <a:ext cx="262116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Line 6"/>
          <p:cNvSpPr/>
          <p:nvPr/>
        </p:nvSpPr>
        <p:spPr>
          <a:xfrm>
            <a:off x="1676520" y="2149560"/>
            <a:ext cx="1616040" cy="10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Line 7"/>
          <p:cNvSpPr/>
          <p:nvPr/>
        </p:nvSpPr>
        <p:spPr>
          <a:xfrm flipV="1">
            <a:off x="1143000" y="3885840"/>
            <a:ext cx="2316240" cy="12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Line 8"/>
          <p:cNvSpPr/>
          <p:nvPr/>
        </p:nvSpPr>
        <p:spPr>
          <a:xfrm>
            <a:off x="1676520" y="3916440"/>
            <a:ext cx="2041560" cy="10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51D8-3E12-491D-BE56-D8D5E99F18A1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bstraktn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í tříd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Courier New"/>
              </a:rPr>
              <a:t>abstract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class Obraze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ublic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ouble obvod(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ublic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ouble obsah(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class Kruh </a:t>
            </a:r>
            <a:r>
              <a:rPr b="1" lang="cs-CZ" sz="2400" spc="-1" strike="noStrike">
                <a:solidFill>
                  <a:srgbClr val="003399"/>
                </a:solidFill>
                <a:latin typeface="Courier New"/>
              </a:rPr>
              <a:t>extends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Obraze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Kruh(double r) { this.r = r; }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double obvod() { return 6.28 * r;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double obsah() { return 3.14 * r * r;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double r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4830840" y="2940120"/>
            <a:ext cx="3809880" cy="747720"/>
          </a:xfrm>
          <a:prstGeom prst="cloudCallout">
            <a:avLst>
              <a:gd name="adj1" fmla="val -71750"/>
              <a:gd name="adj2" fmla="val -6167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Obrazec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Line 5"/>
          <p:cNvSpPr/>
          <p:nvPr/>
        </p:nvSpPr>
        <p:spPr>
          <a:xfrm flipV="1">
            <a:off x="5897520" y="3107880"/>
            <a:ext cx="1371600" cy="3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Line 6"/>
          <p:cNvSpPr/>
          <p:nvPr/>
        </p:nvSpPr>
        <p:spPr>
          <a:xfrm>
            <a:off x="6324480" y="3017880"/>
            <a:ext cx="701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7C38-B0E2-4C5C-8644-FC41964FC20B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bstraktn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í tříd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class Obdelnik extends Obraze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Obdelnik(double a, double b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this.a = a; this.b = b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double obvod() { return 2*(a+b);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double obsah() { return a*b; 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Ctverec extends Obdelnik 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tverec(double a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super(a, a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58F5-EC4D-44CB-82D4-BEE17F94116A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gram A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mplementován v prostředí Ja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ožnost rozšiřo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implementace akcí v jazyce Ja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efinované rozhra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Činnost se řídí souborem v XM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build.x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ntegrován do vývojových prostřed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Eclipse, Netbeans, 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9817-F24A-4898-A32F-8BAC9C1C24FE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ozhran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Courier New"/>
              </a:rPr>
              <a:t>interfac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Obraze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 obvod(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 obsah(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ruh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mplemen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brazec 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ruh(double r) { this.r = r; }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double obvod() { return 6.28 * r;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double obsah() { return 3.14 * r * r;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double r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DA01-8061-4215-9064-5E6E53E9FA62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ozd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íly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Abstraktní tří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může obsahovat instanční proměnn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může obsahovat konkrétní met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lze rozšiřovat pouz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ednu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tříd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zhra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smí obsahovat proměnn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všechny metody jsou public abstra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lze implementovat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více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rozhra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C235-0EDF-43DB-A1D9-5F49CEEF30BE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zdn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í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vazb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tatic boolea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vetsi(Obrazec o1, Obrazec o2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 return o1.plocha() &gt; o2.plocha(); 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te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á metoda plocha() se volá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časná vazb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výběr volané metody v době překlad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odle </a:t>
            </a:r>
            <a:r>
              <a:rPr b="0" i="1" lang="cs-CZ" sz="2400" spc="-1" strike="noStrike">
                <a:solidFill>
                  <a:srgbClr val="000000"/>
                </a:solidFill>
                <a:latin typeface="Constantia"/>
              </a:rPr>
              <a:t>typu reference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, přes kterou metodu volá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zdní vazb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výběr volané metody v době běh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odle </a:t>
            </a:r>
            <a:r>
              <a:rPr b="0" i="1" lang="cs-CZ" sz="2400" spc="-1" strike="noStrike">
                <a:solidFill>
                  <a:srgbClr val="000000"/>
                </a:solidFill>
                <a:latin typeface="Constantia"/>
              </a:rPr>
              <a:t>typu objektu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, na který reference ukazu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2FF1-430E-49EC-99E4-1AD001B2304A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říklad použití pozdní vazb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void 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ect obj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rint obj.toString(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Object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ublic String toString() {…}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oba@24f32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Osoba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extends Obj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ublic String toString() {…}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ohnny Walk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26B3-412E-404A-8111-9A5B13EAA6B3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etěžování operac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ta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int hodnota = 0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void krok() { n++;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oid krok(int d) { hodnota += d; 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AutoShape 4"/>
          <p:cNvSpPr/>
          <p:nvPr/>
        </p:nvSpPr>
        <p:spPr>
          <a:xfrm>
            <a:off x="5013360" y="3336840"/>
            <a:ext cx="2424240" cy="793800"/>
          </a:xfrm>
          <a:prstGeom prst="cloudCallout">
            <a:avLst>
              <a:gd name="adj1" fmla="val -112935"/>
              <a:gd name="adj2" fmla="val -60601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řetížená opera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704520" y="4032360"/>
            <a:ext cx="251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.5 + 3.1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bcd” + “efgh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AutoShape 6"/>
          <p:cNvSpPr/>
          <p:nvPr/>
        </p:nvSpPr>
        <p:spPr>
          <a:xfrm>
            <a:off x="3809880" y="4830840"/>
            <a:ext cx="2575080" cy="884160"/>
          </a:xfrm>
          <a:prstGeom prst="cloudCallout">
            <a:avLst>
              <a:gd name="adj1" fmla="val -102958"/>
              <a:gd name="adj2" fmla="val -8698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řetížený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oper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á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r +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11E3-26E3-4852-A672-33B150C43A0B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raktické cvičení – cviceni3.zi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Úloha 3 – Rozšíření schopností třídy Complex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Upravte třídu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Complex 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tak aby implementovala zde uvedené přetížené metod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571680" y="3214800"/>
            <a:ext cx="8229600" cy="317484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class Complex {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public Complex() { … }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public Complex(double r) { … }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public Complex(double r, double i) { … }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public add(Complex c) { … }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public add(double r) { … }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public add(double r, double i) { … }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4151-788B-46C3-8FA3-E37FAC0FF90A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rostory jmen – motiva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spolupráce více programátorů na jednom projekt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class MojeTrida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??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možnost distribuce knihoven tří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oužití implementací z různých zdrojů v jedné aplikac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ew Seznam()        ??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FACB-8D4C-4A6E-A659-5B5827E3921C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rostory jm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Jak zajistit jednoznačnost názvů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konvence pro pojmenová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nstantia"/>
              </a:rPr>
              <a:t>class MB_Trid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centrální přidělová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nstantia"/>
              </a:rPr>
              <a:t>nerealizovatelné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využití existujících jednoznačných názvů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nstantia"/>
              </a:rPr>
              <a:t>jméno domény organizac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nstantia"/>
              </a:rPr>
              <a:t>cs.vsb.cz, sun.com, ..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212E-7FB3-4C86-91AC-46AD0C7DBB75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3916440" y="1890720"/>
            <a:ext cx="1886040" cy="56340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2678040" y="1874880"/>
            <a:ext cx="1014480" cy="59220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Rectangle 8"/>
          <p:cNvSpPr/>
          <p:nvPr/>
        </p:nvSpPr>
        <p:spPr>
          <a:xfrm>
            <a:off x="942840" y="1898640"/>
            <a:ext cx="1548000" cy="56340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Jména balíků tříd (packages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596880" y="2208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Text Box 7"/>
          <p:cNvSpPr/>
          <p:nvPr/>
        </p:nvSpPr>
        <p:spPr>
          <a:xfrm>
            <a:off x="804960" y="1900080"/>
            <a:ext cx="52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substring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855360" y="268596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jméno balík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Text Box 12"/>
          <p:cNvSpPr/>
          <p:nvPr/>
        </p:nvSpPr>
        <p:spPr>
          <a:xfrm>
            <a:off x="2531160" y="268596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jméno tříd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Text Box 13"/>
          <p:cNvSpPr/>
          <p:nvPr/>
        </p:nvSpPr>
        <p:spPr>
          <a:xfrm>
            <a:off x="4103640" y="265752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jméno metod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Rectangle 14"/>
          <p:cNvSpPr/>
          <p:nvPr/>
        </p:nvSpPr>
        <p:spPr>
          <a:xfrm>
            <a:off x="5072040" y="3583080"/>
            <a:ext cx="2001960" cy="56340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Rectangle 15"/>
          <p:cNvSpPr/>
          <p:nvPr/>
        </p:nvSpPr>
        <p:spPr>
          <a:xfrm>
            <a:off x="3500280" y="3567240"/>
            <a:ext cx="1506600" cy="59184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Rectangle 16"/>
          <p:cNvSpPr/>
          <p:nvPr/>
        </p:nvSpPr>
        <p:spPr>
          <a:xfrm>
            <a:off x="990720" y="3591000"/>
            <a:ext cx="2462040" cy="56340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644400" y="390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Text Box 18"/>
          <p:cNvSpPr/>
          <p:nvPr/>
        </p:nvSpPr>
        <p:spPr>
          <a:xfrm>
            <a:off x="905040" y="3592440"/>
            <a:ext cx="61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cz.vsb.cs.kati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getLogi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Text Box 19"/>
          <p:cNvSpPr/>
          <p:nvPr/>
        </p:nvSpPr>
        <p:spPr>
          <a:xfrm>
            <a:off x="1549080" y="439272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jméno balík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Text Box 20"/>
          <p:cNvSpPr/>
          <p:nvPr/>
        </p:nvSpPr>
        <p:spPr>
          <a:xfrm>
            <a:off x="3604320" y="439272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jméno tříd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Text Box 21"/>
          <p:cNvSpPr/>
          <p:nvPr/>
        </p:nvSpPr>
        <p:spPr>
          <a:xfrm>
            <a:off x="5319720" y="439092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jméno metod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F02D-3E58-49AD-8594-12D3EC7A0E5F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yhled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ávání balíků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umístění přeložených tří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oubory </a:t>
            </a:r>
            <a:r>
              <a:rPr b="0" lang="cs-CZ" sz="2400" spc="-1" strike="noStrike">
                <a:solidFill>
                  <a:srgbClr val="003399"/>
                </a:solidFill>
                <a:latin typeface="Constantia"/>
              </a:rPr>
              <a:t>.cla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archivy </a:t>
            </a:r>
            <a:r>
              <a:rPr b="0" lang="cs-CZ" sz="2400" spc="-1" strike="noStrike">
                <a:solidFill>
                  <a:srgbClr val="003399"/>
                </a:solidFill>
                <a:latin typeface="Constantia"/>
              </a:rPr>
              <a:t>.ja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(odpovídá formátu .zip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nastavení cest pro vyhledá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et CLASSPA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.;c:/java/lib;c:/java/lib/mylib.j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ava </a:t>
            </a:r>
            <a:r>
              <a:rPr b="0" lang="en-US" sz="2400" spc="-1" strike="noStrike">
                <a:solidFill>
                  <a:srgbClr val="003399"/>
                </a:solidFill>
                <a:latin typeface="Constantia"/>
              </a:rPr>
              <a:t>–classpath ./class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vyuka.java.Priklad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uktura adres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áře odpovídá jménu balík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/classes/vyuka/java/Priklad1.cla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6C46-9F36-485A-89F8-D6C96F2FCA36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Struktura řídicího soubor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635280" y="1628640"/>
            <a:ext cx="1368360" cy="165600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Line 5"/>
          <p:cNvSpPr/>
          <p:nvPr/>
        </p:nvSpPr>
        <p:spPr>
          <a:xfrm>
            <a:off x="3635280" y="2060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3893760" y="162864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4408560" y="1643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3620160" y="2076480"/>
            <a:ext cx="14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basedi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826920" y="2276640"/>
            <a:ext cx="1440000" cy="194436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826920" y="2708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1098000" y="227664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811800" y="2722680"/>
            <a:ext cx="14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depen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unles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Line 15"/>
          <p:cNvSpPr/>
          <p:nvPr/>
        </p:nvSpPr>
        <p:spPr>
          <a:xfrm flipH="1">
            <a:off x="2268000" y="2205000"/>
            <a:ext cx="1366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2331360" y="2133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3256200" y="1932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Rectangle 18"/>
          <p:cNvSpPr/>
          <p:nvPr/>
        </p:nvSpPr>
        <p:spPr>
          <a:xfrm>
            <a:off x="6372360" y="2205000"/>
            <a:ext cx="1512720" cy="144000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Line 19"/>
          <p:cNvSpPr/>
          <p:nvPr/>
        </p:nvSpPr>
        <p:spPr>
          <a:xfrm>
            <a:off x="6372360" y="263700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6609240" y="22050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6542280" y="2637000"/>
            <a:ext cx="106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AutoShape 23"/>
          <p:cNvSpPr/>
          <p:nvPr/>
        </p:nvSpPr>
        <p:spPr>
          <a:xfrm>
            <a:off x="6516720" y="3068640"/>
            <a:ext cx="73080" cy="360360"/>
          </a:xfrm>
          <a:custGeom>
            <a:avLst/>
            <a:gdLst>
              <a:gd name="textAreaLeft" fmla="*/ 46800 w 73080"/>
              <a:gd name="textAreaRight" fmla="*/ 73440 w 730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AutoShape 24"/>
          <p:cNvSpPr/>
          <p:nvPr/>
        </p:nvSpPr>
        <p:spPr>
          <a:xfrm>
            <a:off x="7524720" y="3068640"/>
            <a:ext cx="71640" cy="360360"/>
          </a:xfrm>
          <a:custGeom>
            <a:avLst/>
            <a:gdLst>
              <a:gd name="textAreaLeft" fmla="*/ 0 w 71640"/>
              <a:gd name="textAreaRight" fmla="*/ 25920 w 71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Line 25"/>
          <p:cNvSpPr/>
          <p:nvPr/>
        </p:nvSpPr>
        <p:spPr>
          <a:xfrm>
            <a:off x="5003640" y="2205000"/>
            <a:ext cx="136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Text Box 26"/>
          <p:cNvSpPr/>
          <p:nvPr/>
        </p:nvSpPr>
        <p:spPr>
          <a:xfrm>
            <a:off x="5056560" y="1932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Text Box 27"/>
          <p:cNvSpPr/>
          <p:nvPr/>
        </p:nvSpPr>
        <p:spPr>
          <a:xfrm>
            <a:off x="6003360" y="20606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Rectangle 28"/>
          <p:cNvSpPr/>
          <p:nvPr/>
        </p:nvSpPr>
        <p:spPr>
          <a:xfrm>
            <a:off x="3564000" y="4292640"/>
            <a:ext cx="1655640" cy="50472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Line 29"/>
          <p:cNvSpPr/>
          <p:nvPr/>
        </p:nvSpPr>
        <p:spPr>
          <a:xfrm>
            <a:off x="3564000" y="47242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Text Box 31"/>
          <p:cNvSpPr/>
          <p:nvPr/>
        </p:nvSpPr>
        <p:spPr>
          <a:xfrm>
            <a:off x="4122360" y="42926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onstantia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Line 32"/>
          <p:cNvSpPr/>
          <p:nvPr/>
        </p:nvSpPr>
        <p:spPr>
          <a:xfrm>
            <a:off x="2287440" y="3414600"/>
            <a:ext cx="14414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Text Box 33"/>
          <p:cNvSpPr/>
          <p:nvPr/>
        </p:nvSpPr>
        <p:spPr>
          <a:xfrm>
            <a:off x="2340360" y="3141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Text Box 34"/>
          <p:cNvSpPr/>
          <p:nvPr/>
        </p:nvSpPr>
        <p:spPr>
          <a:xfrm>
            <a:off x="3628440" y="38606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Rectangle 35"/>
          <p:cNvSpPr/>
          <p:nvPr/>
        </p:nvSpPr>
        <p:spPr>
          <a:xfrm>
            <a:off x="2484360" y="5373720"/>
            <a:ext cx="863640" cy="57636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Line 36"/>
          <p:cNvSpPr/>
          <p:nvPr/>
        </p:nvSpPr>
        <p:spPr>
          <a:xfrm>
            <a:off x="2484360" y="558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Rectangle 37"/>
          <p:cNvSpPr/>
          <p:nvPr/>
        </p:nvSpPr>
        <p:spPr>
          <a:xfrm>
            <a:off x="3924360" y="5373720"/>
            <a:ext cx="863640" cy="57636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Line 38"/>
          <p:cNvSpPr/>
          <p:nvPr/>
        </p:nvSpPr>
        <p:spPr>
          <a:xfrm>
            <a:off x="3924360" y="558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Rectangle 39"/>
          <p:cNvSpPr/>
          <p:nvPr/>
        </p:nvSpPr>
        <p:spPr>
          <a:xfrm>
            <a:off x="5292720" y="5373720"/>
            <a:ext cx="863640" cy="57636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Line 40"/>
          <p:cNvSpPr/>
          <p:nvPr/>
        </p:nvSpPr>
        <p:spPr>
          <a:xfrm>
            <a:off x="5292720" y="558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Line 42"/>
          <p:cNvSpPr/>
          <p:nvPr/>
        </p:nvSpPr>
        <p:spPr>
          <a:xfrm flipV="1">
            <a:off x="2916360" y="4797000"/>
            <a:ext cx="1079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Line 43"/>
          <p:cNvSpPr/>
          <p:nvPr/>
        </p:nvSpPr>
        <p:spPr>
          <a:xfrm flipV="1">
            <a:off x="4356000" y="479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Line 44"/>
          <p:cNvSpPr/>
          <p:nvPr/>
        </p:nvSpPr>
        <p:spPr>
          <a:xfrm flipH="1" flipV="1">
            <a:off x="4932360" y="4797000"/>
            <a:ext cx="79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6203-A2FF-48DA-9820-8614CEA591FD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Definice příslušnosti k balík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Courier New"/>
              </a:rPr>
              <a:t>package cz.vsb.cs.katis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Stud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String login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public String getLogin(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{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return login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íklad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mujbalicek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Citac 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38" name="Picture 2" descr=""/>
          <p:cNvPicPr/>
          <p:nvPr/>
        </p:nvPicPr>
        <p:blipFill>
          <a:blip r:embed="rId1"/>
          <a:stretch/>
        </p:blipFill>
        <p:spPr>
          <a:xfrm>
            <a:off x="428760" y="3286080"/>
            <a:ext cx="82864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7C1E-A6F8-44D1-8679-A59D4A2EEFDD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623880" y="1733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lně k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valifikovan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é jméno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říkaz import – dovoz jedné tříd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říkaz import – dovoz celého balík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říkaz import – statický impor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nov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ě JAVA 5.0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řístup k prvkům balík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2" name="Text Box 4"/>
          <p:cNvSpPr/>
          <p:nvPr/>
        </p:nvSpPr>
        <p:spPr>
          <a:xfrm>
            <a:off x="1214280" y="2143080"/>
            <a:ext cx="6372360" cy="3070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java.util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= new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java.util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ate(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1214280" y="2857680"/>
            <a:ext cx="6372360" cy="73332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import java.util.Da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…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= new Date(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1214280" y="4143240"/>
            <a:ext cx="6372360" cy="73332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import java.util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…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= new Date(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1214280" y="5286240"/>
            <a:ext cx="6372360" cy="84456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import static java.math.PI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r = cos(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 * theta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r = cos(PI * theta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9D38-01D1-471E-BD92-87F2A441322F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Zapouzdření prvků v balík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Třídy a rozhraní označené publ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ístupné ze všech balík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v souboru .java může být pouze jeden prvek označený publi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 jm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éno se musí shodovat se jménem zdrojového soubo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Třídy a rozhraní bez označení publ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ístupné pouze ze stejného balík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v souboru .java jich může být libovolný poč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BDF0-9BAD-45B2-AB35-17E1E895CE31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Zapouzdření prvků ve třídě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riv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ostupné pouze v rámci těla tří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rotec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ostupné v rámci stejného balíku + třídám, které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 aktuální třídy dě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ubl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ostupné z libovolné třídy libovolného balík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bez označe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ostupné z libovolné třídy téhož balík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497A-2E7C-4378-88BE-4796976A645D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Kolize ve jméne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dkaz mus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í být jednoznačn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zn.: Co když chybí příkaz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ackage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implicitní balík – vše funguje i bez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ublic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674640" y="2433600"/>
            <a:ext cx="8034480" cy="24706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mport cz.vsb.cs.util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e today = new Date(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java.util.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Date today = new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java.util.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Date()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Line 5"/>
          <p:cNvSpPr/>
          <p:nvPr/>
        </p:nvSpPr>
        <p:spPr>
          <a:xfrm flipV="1">
            <a:off x="1293840" y="3967200"/>
            <a:ext cx="3784680" cy="379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Line 6"/>
          <p:cNvSpPr/>
          <p:nvPr/>
        </p:nvSpPr>
        <p:spPr>
          <a:xfrm>
            <a:off x="1279440" y="3911760"/>
            <a:ext cx="3841920" cy="393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7293-6E9A-4D83-A47B-5076645183B0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Standardní balíky JD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736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java.la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potřebuje příkaz import, doveze se automatick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ákladní třídy (Object, Class, String, System, Math, Integer, Thread, ...), rozhraní (Comparable, ...) a výjimky (Exception, ..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787320" y="4024440"/>
            <a:ext cx="7583400" cy="192276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System.ex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1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 str.toLowerCase() 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val = Integer.parseInt(str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 rnd = Math.random(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( Character.isDigit(c) ) 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2077-77D7-4DC5-A2F4-BE4FD293C640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Standardní balíky JD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java.ut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omocné třídy (Currency, Calendar, Date, Random)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rozhraní a implementace abstraktních datových typů (List, Set, Map, LinkedList, TreeSet, TreeMap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619200" y="4570560"/>
            <a:ext cx="7707240" cy="13816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mport java.util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new Date()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s.sort(arr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C7C6-3BB9-495E-8CE2-ACB8BF7E0440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Standardní balíky JD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java.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áce s datovými proudy (soubory, bloky paměti, řetězce, roury, ..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java.n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odpora síťových aplikací (třídy URL, Socket, ..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java.rm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vzdálené volání metod (rozhraní Remot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12D7-CB10-4295-B77F-36399E3E6365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Standardní balíky JD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java.appl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dpora applet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ů – aplikací běžících v prohlížeči na straně klienta (IE, Netscape, ..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java.aw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dnoduchá knihovna komponent grafického uživatelského rozhra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javax.s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okročilá knihovna komponent grafického uživatelského rozhra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E909-47B1-4BEA-AAF1-8DCF671818AC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Struktura řídicího soubor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Lucida Console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Lucida Console"/>
              </a:rPr>
              <a:t>&lt;project name="Test" default="all" basedir="."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Lucida Console"/>
              </a:rPr>
              <a:t>&lt;property name="src" location="src"/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Lucida Console"/>
              </a:rPr>
              <a:t>&lt;property name="build" location="classes"/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Lucida Console"/>
              </a:rPr>
              <a:t>&lt;target name="all" depends="init,compile,run"/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Lucida Console"/>
              </a:rPr>
              <a:t>&lt;target name="init"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&lt;mkdir dir=“${build}”/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Lucida Console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&lt;!-- …  --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Lucida Console"/>
              </a:rPr>
              <a:t>&lt;/project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B7A2-E974-4DCE-9BC7-B380EFA7427C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Standardní balíky JD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java.sql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javax.sq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dnotný přístup k SQL databáz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javax.xml.parsers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javax.xml.transfo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analýza XML souborů a jejich transform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java.security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javax.secur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kryptografie a bezpečnost aplikac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739F-5C21-414E-BAA2-871AE10429E2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ešení příkladu ze cvičen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cviceni3;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ublic class Comple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double re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private double im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double getRe() { return re; 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double getIm() { return im; 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ublic double abs() 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return Math.sqrt(re * re + im * im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98CA-F2AF-468A-9233-59AA4041ACE8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ešení příkladu ze cvičen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ublic Complex() 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ublic Complex(double re) 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this.re = 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this.im = 0.0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ublic Complex(double re, double im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this.re = 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this.im = im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D9A7-7591-4534-B478-1EDBB572EAAE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ešení příkladu ze cvičen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ublic void add(Complex c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re += c.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m += c.im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ublic static Complex add(Complex c1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Complex c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double re = c1.re + c2.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double im = c1.im + c2.im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return new Complex(re, im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A32A-BED6-4A4B-AD90-A489664E5463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ešení příkladu ze cvičen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8440920" cy="441180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m == 0.0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Double.toString(re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: re == 0.0 ? im + “i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: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re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m &lt; 0.0 ? "" : "+“) +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m + "i"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boolean equals(Object obj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if( obj instanceof Complex 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Complex c = (Complex)obj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return re == c.re &amp;&amp; im == c.im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return fals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0C7D-55F3-4236-8028-39F0FA6A3DF1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raktické cvičení – cviceni4.zi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Úloha 1 – Práce s rozhraním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Rozbalte v pracovním adresáři soubor cviceni4.zip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rostudujte jakým způsobem je zajištěno třídění bulbinkovou metodou objektů typu Zlomek(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Priklad.java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Rozšiřte třídu Complex o implementaci rozhraní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Porovnateln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Úloha 2 – Práce s rozhraními Comparable, Comparato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rostudujte v JAVA API tyto dvě rozhran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Upravte třídy v baličku cviceni4 tak, aby používaly dané rozhraní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3808-B8E5-47F7-8306-929DB59980C4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pu</a:t>
            </a: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štění program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a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řídicí soubor build.x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ovedení implicitního cí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ant compi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ovedení zadaného cí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ant –buildfile test.xm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oužití zadaného řídicího soubo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ant –Dbuild.compiler=jik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astavení hodnoty vlastnos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ant –logfile build.log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uložení logu do soubo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0:54:12Z</dcterms:created>
  <dc:creator>Lumír Návrat</dc:creator>
  <dc:description/>
  <dc:language>en-US</dc:language>
  <cp:lastModifiedBy>Lumír Návrat</cp:lastModifiedBy>
  <dcterms:modified xsi:type="dcterms:W3CDTF">2007-01-05T11:01:19Z</dcterms:modified>
  <cp:revision>132</cp:revision>
  <dc:subject/>
  <dc:title>JAVA Tutoriál</dc:title>
</cp:coreProperties>
</file>